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30E42-4DF6-4A33-95BF-A5897BAF99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4771CBE-C64E-40C1-BEEE-294CF0BF4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3E8AF0E-2A95-457F-93B1-032D3F60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FFE21AF-6B78-432F-8EAD-5EFD6D3079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72E6C2-B53B-4906-B36A-E728E43FE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5348B-A78C-4C93-85B3-A781BF228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211B9-91DA-4385-8487-1D41D7D71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B4C34-2D2F-4345-8805-0709FD891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9591C-C77E-484A-A8D1-96290C030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42720"/>
            <a:ext cx="67978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A4153-CC8E-43C2-B6D2-2068DFEF0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AB759-A08F-4175-BBC1-090793DDC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D29A4F-6307-4780-897B-390C0E52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F40D4-9A67-4547-A629-925B7BA84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0D097-C33E-4848-9B37-315FCEB99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422F2-31CD-449A-9FA5-8323D011D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47111-BEE2-43DD-96F0-6979BB062E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FC6D2-4A3D-42B0-802E-663C33BBC6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EF6FE-E106-4D23-BF5C-0C949A014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0948AC-A62B-42E0-A21B-92FC1753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D3CF60E6-BBF4-43B8-B07D-44365E2F0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837720" y="342720"/>
            <a:ext cx="67978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DE49D6-B0EE-4DFE-A84E-A153A38A7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BE822F-07B8-4C52-874A-0D3DD5C53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443B0E-7500-4DAB-9758-3F629A54F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EA2EE4-D756-4D09-AEBD-91C5EE771F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8686"/>
        </a:solidFill>
      </p:bgPr>
    </p:bg>
    <p:spTree>
      <p:nvGrpSpPr>
        <p:cNvPr id="1" name=""/>
        <p:cNvGrpSpPr/>
        <p:nvPr/>
      </p:nvGrpSpPr>
      <p:grpSpPr>
        <a:xfrm>
          <a:off x="0" y="0"/>
          <a:ext cx="0" cy="0"/>
          <a:chOff x="0" y="0"/>
          <a:chExt cx="0" cy="0"/>
        </a:xfrm>
      </p:grpSpPr>
      <p:grpSp>
        <p:nvGrpSpPr>
          <p:cNvPr id="0" name=""/>
          <p:cNvGrpSpPr/>
          <p:nvPr/>
        </p:nvGrpSpPr>
        <p:grpSpPr>
          <a:xfrm>
            <a:off x="380880" y="1600200"/>
            <a:ext cx="8383680" cy="4727520"/>
            <a:chOff x="380880" y="1600200"/>
            <a:chExt cx="8383680" cy="4727520"/>
          </a:xfrm>
        </p:grpSpPr>
        <p:sp>
          <p:nvSpPr>
            <p:cNvPr id="1" name=""/>
            <p:cNvSpPr/>
            <p:nvPr/>
          </p:nvSpPr>
          <p:spPr>
            <a:xfrm>
              <a:off x="388800" y="1603440"/>
              <a:ext cx="8364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0880" y="1600200"/>
              <a:ext cx="8364600" cy="4726080"/>
            </a:xfrm>
            <a:custGeom>
              <a:avLst/>
              <a:gdLst/>
              <a:ahLst/>
              <a:rect l="l" t="t" r="r" b="b"/>
              <a:pathLst>
                <a:path w="5269" h="2977">
                  <a:moveTo>
                    <a:pt x="5268" y="0"/>
                  </a:moveTo>
                  <a:lnTo>
                    <a:pt x="0" y="0"/>
                  </a:lnTo>
                  <a:lnTo>
                    <a:pt x="0" y="2976"/>
                  </a:lnTo>
                </a:path>
              </a:pathLst>
            </a:custGeom>
            <a:solidFill>
              <a:srgbClr val="ffff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99960" y="1600200"/>
              <a:ext cx="8364600" cy="4726080"/>
            </a:xfrm>
            <a:custGeom>
              <a:avLst/>
              <a:gdLst/>
              <a:ahLst/>
              <a:rect l="l" t="t" r="r" b="b"/>
              <a:pathLst>
                <a:path w="5269" h="2977">
                  <a:moveTo>
                    <a:pt x="5268" y="0"/>
                  </a:moveTo>
                  <a:lnTo>
                    <a:pt x="5268" y="2976"/>
                  </a:lnTo>
                  <a:lnTo>
                    <a:pt x="0" y="297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 name=""/>
          <p:cNvGrpSpPr/>
          <p:nvPr/>
        </p:nvGrpSpPr>
        <p:grpSpPr>
          <a:xfrm>
            <a:off x="533520" y="1751040"/>
            <a:ext cx="153720" cy="4421160"/>
            <a:chOff x="533520" y="1751040"/>
            <a:chExt cx="153720" cy="4421160"/>
          </a:xfrm>
        </p:grpSpPr>
        <p:sp>
          <p:nvSpPr>
            <p:cNvPr id="5"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380880" y="304920"/>
            <a:ext cx="306360" cy="1144440"/>
            <a:chOff x="380880" y="304920"/>
            <a:chExt cx="306360" cy="1144440"/>
          </a:xfrm>
        </p:grpSpPr>
        <p:sp>
          <p:nvSpPr>
            <p:cNvPr id="9" name=""/>
            <p:cNvSpPr/>
            <p:nvPr/>
          </p:nvSpPr>
          <p:spPr>
            <a:xfrm>
              <a:off x="380880" y="304920"/>
              <a:ext cx="3049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0880" y="304920"/>
              <a:ext cx="306360" cy="1144440"/>
            </a:xfrm>
            <a:custGeom>
              <a:avLst/>
              <a:gdLst/>
              <a:ahLst/>
              <a:rect l="l" t="t" r="r" b="b"/>
              <a:pathLst>
                <a:path w="193" h="721">
                  <a:moveTo>
                    <a:pt x="192" y="0"/>
                  </a:moveTo>
                  <a:lnTo>
                    <a:pt x="0" y="0"/>
                  </a:lnTo>
                  <a:lnTo>
                    <a:pt x="0" y="720"/>
                  </a:lnTo>
                </a:path>
              </a:pathLst>
            </a:custGeom>
            <a:solidFill>
              <a:srgbClr val="ffff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192" y="720"/>
                  </a:lnTo>
                  <a:lnTo>
                    <a:pt x="0" y="7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837720" y="342720"/>
            <a:ext cx="67978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 name="PlaceHolder 4"/>
          <p:cNvSpPr>
            <a:spLocks noGrp="1"/>
          </p:cNvSpPr>
          <p:nvPr>
            <p:ph type="sldNum" idx="2"/>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93C6-3BDA-4F02-A271-3B2603EF0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6" name=""/>
          <p:cNvGraphicFramePr/>
          <p:nvPr/>
        </p:nvGraphicFramePr>
        <p:xfrm>
          <a:off x="7763040" y="104760"/>
          <a:ext cx="1290600" cy="542880"/>
        </p:xfrm>
        <a:graphic>
          <a:graphicData uri="http://schemas.openxmlformats.org/presentationml/2006/ole">
            <p:oleObj r:id="rId2" spid="">
              <p:embed/>
              <p:pic>
                <p:nvPicPr>
                  <p:cNvPr id="17" name="" descr=""/>
                  <p:cNvPicPr/>
                  <p:nvPr/>
                </p:nvPicPr>
                <p:blipFill>
                  <a:blip r:embed="rId3"/>
                  <a:stretch/>
                </p:blipFill>
                <p:spPr>
                  <a:xfrm>
                    <a:off x="7763040" y="104760"/>
                    <a:ext cx="1290600" cy="542880"/>
                  </a:xfrm>
                  <a:prstGeom prst="rect">
                    <a:avLst/>
                  </a:prstGeom>
                  <a:ln w="0">
                    <a:noFill/>
                  </a:ln>
                </p:spPr>
              </p:pic>
            </p:oleObj>
          </a:graphicData>
        </a:graphic>
      </p:graphicFrame>
      <p:sp>
        <p:nvSpPr>
          <p:cNvPr id="18" name=""/>
          <p:cNvSpPr/>
          <p:nvPr/>
        </p:nvSpPr>
        <p:spPr>
          <a:xfrm>
            <a:off x="3112920" y="6437160"/>
            <a:ext cx="32259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emisoft.co.uk</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8686"/>
        </a:solidFill>
      </p:bgPr>
    </p:bg>
    <p:spTree>
      <p:nvGrpSpPr>
        <p:cNvPr id="1" name=""/>
        <p:cNvGrpSpPr/>
        <p:nvPr/>
      </p:nvGrpSpPr>
      <p:grpSpPr>
        <a:xfrm>
          <a:off x="0" y="0"/>
          <a:ext cx="0" cy="0"/>
          <a:chOff x="0" y="0"/>
          <a:chExt cx="0" cy="0"/>
        </a:xfrm>
      </p:grpSpPr>
      <p:grpSp>
        <p:nvGrpSpPr>
          <p:cNvPr id="55" name=""/>
          <p:cNvGrpSpPr/>
          <p:nvPr/>
        </p:nvGrpSpPr>
        <p:grpSpPr>
          <a:xfrm>
            <a:off x="436680" y="1757520"/>
            <a:ext cx="8389800" cy="2211120"/>
            <a:chOff x="436680" y="1757520"/>
            <a:chExt cx="8389800" cy="2211120"/>
          </a:xfrm>
        </p:grpSpPr>
        <p:sp>
          <p:nvSpPr>
            <p:cNvPr id="56" name=""/>
            <p:cNvSpPr/>
            <p:nvPr/>
          </p:nvSpPr>
          <p:spPr>
            <a:xfrm>
              <a:off x="444600" y="1758960"/>
              <a:ext cx="8369280" cy="22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36680" y="1757520"/>
              <a:ext cx="8370720" cy="2211120"/>
            </a:xfrm>
            <a:custGeom>
              <a:avLst/>
              <a:gdLst/>
              <a:ahLst/>
              <a:rect l="l" t="t" r="r" b="b"/>
              <a:pathLst>
                <a:path w="5273" h="1393">
                  <a:moveTo>
                    <a:pt x="5272" y="0"/>
                  </a:moveTo>
                  <a:lnTo>
                    <a:pt x="0" y="0"/>
                  </a:lnTo>
                  <a:lnTo>
                    <a:pt x="0" y="1392"/>
                  </a:lnTo>
                </a:path>
              </a:pathLst>
            </a:custGeom>
            <a:solidFill>
              <a:srgbClr val="ffff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5760" y="1757520"/>
              <a:ext cx="8370720" cy="2211120"/>
            </a:xfrm>
            <a:custGeom>
              <a:avLst/>
              <a:gdLst/>
              <a:ahLst/>
              <a:rect l="l" t="t" r="r" b="b"/>
              <a:pathLst>
                <a:path w="5273" h="1393">
                  <a:moveTo>
                    <a:pt x="5272" y="0"/>
                  </a:moveTo>
                  <a:lnTo>
                    <a:pt x="5272" y="1392"/>
                  </a:lnTo>
                  <a:lnTo>
                    <a:pt x="0" y="139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93840" y="5991120"/>
            <a:ext cx="8383320" cy="154080"/>
            <a:chOff x="393840" y="5991120"/>
            <a:chExt cx="8383320" cy="154080"/>
          </a:xfrm>
        </p:grpSpPr>
        <p:sp>
          <p:nvSpPr>
            <p:cNvPr id="60" name=""/>
            <p:cNvSpPr/>
            <p:nvPr/>
          </p:nvSpPr>
          <p:spPr>
            <a:xfrm>
              <a:off x="393840" y="5991120"/>
              <a:ext cx="8381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93840" y="5991120"/>
              <a:ext cx="8383320" cy="154080"/>
            </a:xfrm>
            <a:custGeom>
              <a:avLst/>
              <a:gdLst/>
              <a:ahLst/>
              <a:rect l="l" t="t" r="r" b="b"/>
              <a:pathLst>
                <a:path w="5281" h="97">
                  <a:moveTo>
                    <a:pt x="5280" y="0"/>
                  </a:moveTo>
                  <a:lnTo>
                    <a:pt x="0" y="0"/>
                  </a:lnTo>
                  <a:lnTo>
                    <a:pt x="0" y="96"/>
                  </a:lnTo>
                </a:path>
              </a:pathLst>
            </a:custGeom>
            <a:solidFill>
              <a:srgbClr val="ffff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3840" y="5991120"/>
              <a:ext cx="8383320" cy="154080"/>
            </a:xfrm>
            <a:custGeom>
              <a:avLst/>
              <a:gdLst/>
              <a:ahLst/>
              <a:rect l="l" t="t" r="r" b="b"/>
              <a:pathLst>
                <a:path w="5281" h="97">
                  <a:moveTo>
                    <a:pt x="5280" y="0"/>
                  </a:moveTo>
                  <a:lnTo>
                    <a:pt x="5280" y="96"/>
                  </a:lnTo>
                  <a:lnTo>
                    <a:pt x="0" y="9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14440" y="2031840"/>
            <a:ext cx="153720" cy="1752840"/>
            <a:chOff x="514440" y="2031840"/>
            <a:chExt cx="153720" cy="1752840"/>
          </a:xfrm>
        </p:grpSpPr>
        <p:sp>
          <p:nvSpPr>
            <p:cNvPr id="64" name=""/>
            <p:cNvSpPr/>
            <p:nvPr/>
          </p:nvSpPr>
          <p:spPr>
            <a:xfrm>
              <a:off x="514440" y="2033640"/>
              <a:ext cx="152280" cy="1751040"/>
            </a:xfrm>
            <a:prstGeom prst="rect">
              <a:avLst/>
            </a:prstGeom>
            <a:gradFill rotWithShape="0">
              <a:gsLst>
                <a:gs pos="0">
                  <a:srgbClr val="cc0000"/>
                </a:gs>
                <a:gs pos="100000">
                  <a:srgbClr val="8d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4440" y="2031840"/>
              <a:ext cx="153720" cy="1752840"/>
            </a:xfrm>
            <a:custGeom>
              <a:avLst/>
              <a:gdLst/>
              <a:ahLst/>
              <a:rect l="l" t="t" r="r" b="b"/>
              <a:pathLst>
                <a:path w="97" h="1104">
                  <a:moveTo>
                    <a:pt x="0" y="1103"/>
                  </a:moveTo>
                  <a:lnTo>
                    <a:pt x="96" y="1103"/>
                  </a:lnTo>
                  <a:lnTo>
                    <a:pt x="96" y="0"/>
                  </a:lnTo>
                </a:path>
              </a:pathLst>
            </a:custGeom>
            <a:gradFill rotWithShape="0">
              <a:gsLst>
                <a:gs pos="0">
                  <a:srgbClr val="cc0000"/>
                </a:gs>
                <a:gs pos="100000">
                  <a:srgbClr val="8d0000"/>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4440" y="2031840"/>
              <a:ext cx="153720" cy="1752840"/>
            </a:xfrm>
            <a:custGeom>
              <a:avLst/>
              <a:gdLst/>
              <a:ahLst/>
              <a:rect l="l" t="t" r="r" b="b"/>
              <a:pathLst>
                <a:path w="97" h="1104">
                  <a:moveTo>
                    <a:pt x="0" y="1103"/>
                  </a:moveTo>
                  <a:lnTo>
                    <a:pt x="0" y="0"/>
                  </a:lnTo>
                  <a:lnTo>
                    <a:pt x="96" y="0"/>
                  </a:lnTo>
                </a:path>
              </a:pathLst>
            </a:custGeom>
            <a:gradFill rotWithShape="0">
              <a:gsLst>
                <a:gs pos="0">
                  <a:srgbClr val="cc0000"/>
                </a:gs>
                <a:gs pos="100000">
                  <a:srgbClr val="8d00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PlaceHolder 1"/>
          <p:cNvSpPr>
            <a:spLocks noGrp="1"/>
          </p:cNvSpPr>
          <p:nvPr>
            <p:ph type="title"/>
          </p:nvPr>
        </p:nvSpPr>
        <p:spPr>
          <a:xfrm>
            <a:off x="779400" y="2109600"/>
            <a:ext cx="7772400" cy="13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8" name="PlaceHolder 2"/>
          <p:cNvSpPr>
            <a:spLocks noGrp="1"/>
          </p:cNvSpPr>
          <p:nvPr>
            <p:ph type="dt" idx="3"/>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5"/>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7A58-D0F8-4402-B434-FE1E65FB4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71" name=""/>
          <p:cNvGraphicFramePr/>
          <p:nvPr/>
        </p:nvGraphicFramePr>
        <p:xfrm>
          <a:off x="6176880" y="220680"/>
          <a:ext cx="2714760" cy="1143000"/>
        </p:xfrm>
        <a:graphic>
          <a:graphicData uri="http://schemas.openxmlformats.org/presentationml/2006/ole">
            <p:oleObj r:id="rId2" spid="">
              <p:embed/>
              <p:pic>
                <p:nvPicPr>
                  <p:cNvPr id="72" name="" descr=""/>
                  <p:cNvPicPr/>
                  <p:nvPr/>
                </p:nvPicPr>
                <p:blipFill>
                  <a:blip r:embed="rId3"/>
                  <a:stretch/>
                </p:blipFill>
                <p:spPr>
                  <a:xfrm>
                    <a:off x="6176880" y="220680"/>
                    <a:ext cx="2714760" cy="1143000"/>
                  </a:xfrm>
                  <a:prstGeom prst="rect">
                    <a:avLst/>
                  </a:prstGeom>
                  <a:ln w="0">
                    <a:noFill/>
                  </a:ln>
                </p:spPr>
              </p:pic>
            </p:oleObj>
          </a:graphicData>
        </a:graphic>
      </p:graphicFrame>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2b2b2"/>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2b2b2"/>
              </a:buClr>
              <a:buSzPct val="7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1920"/>
            <a:ext cx="8229600" cy="4419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Rounded MT Bold"/>
              </a:rPr>
              <a:t>Emission</a:t>
            </a:r>
            <a:br>
              <a:rPr sz="8800"/>
            </a:br>
            <a:r>
              <a:rPr b="0" lang="en-US" sz="8800" spc="-1" strike="noStrike">
                <a:solidFill>
                  <a:srgbClr val="ffffff"/>
                </a:solidFill>
                <a:latin typeface="Arial Rounded MT Bold"/>
              </a:rPr>
              <a:t>Measurements</a:t>
            </a:r>
            <a:br>
              <a:rPr sz="8800"/>
            </a:br>
            <a:r>
              <a:rPr b="0" lang="en-US" sz="6000" spc="-1" strike="noStrike">
                <a:solidFill>
                  <a:srgbClr val="ffffff"/>
                </a:solidFill>
                <a:latin typeface="Arial Rounded MT Bold"/>
              </a:rPr>
              <a:t>“a review”</a:t>
            </a:r>
            <a:endParaRPr b="0" lang="en-US" sz="6000" spc="-1" strike="noStrike">
              <a:solidFill>
                <a:srgbClr val="ffffff"/>
              </a:solidFill>
              <a:latin typeface="Arial"/>
            </a:endParaRPr>
          </a:p>
        </p:txBody>
      </p:sp>
      <p:sp>
        <p:nvSpPr>
          <p:cNvPr id="111" name="PlaceHolder 2"/>
          <p:cNvSpPr>
            <a:spLocks noGrp="1"/>
          </p:cNvSpPr>
          <p:nvPr>
            <p:ph type="subTitle"/>
          </p:nvPr>
        </p:nvSpPr>
        <p:spPr>
          <a:xfrm>
            <a:off x="1143000" y="5257440"/>
            <a:ext cx="6400800" cy="10666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ndy Griffi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77"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Resolution</a:t>
            </a:r>
            <a:endParaRPr b="0" lang="en-US" sz="4400" spc="-1" strike="noStrike">
              <a:solidFill>
                <a:srgbClr val="000000"/>
              </a:solidFill>
              <a:latin typeface="Times New Roman"/>
            </a:endParaRPr>
          </a:p>
        </p:txBody>
      </p:sp>
      <p:sp>
        <p:nvSpPr>
          <p:cNvPr id="178" name="PlaceHolder 1"/>
          <p:cNvSpPr>
            <a:spLocks noGrp="1"/>
          </p:cNvSpPr>
          <p:nvPr>
            <p:ph/>
          </p:nvPr>
        </p:nvSpPr>
        <p:spPr>
          <a:xfrm>
            <a:off x="533520" y="762120"/>
            <a:ext cx="8153280" cy="51084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Zoomed” in section, showing how data has not been lost but just not resolved.</a:t>
            </a:r>
            <a:endParaRPr b="0" lang="en-US" sz="2800" spc="-1" strike="noStrike">
              <a:solidFill>
                <a:srgbClr val="000000"/>
              </a:solidFill>
              <a:latin typeface="Arial"/>
            </a:endParaRPr>
          </a:p>
        </p:txBody>
      </p:sp>
      <p:pic>
        <p:nvPicPr>
          <p:cNvPr id="179" name="" descr=""/>
          <p:cNvPicPr/>
          <p:nvPr/>
        </p:nvPicPr>
        <p:blipFill>
          <a:blip r:embed="rId1"/>
          <a:stretch/>
        </p:blipFill>
        <p:spPr>
          <a:xfrm>
            <a:off x="380880" y="2362320"/>
            <a:ext cx="8382240" cy="424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80"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Details</a:t>
            </a:r>
            <a:endParaRPr b="0" lang="en-US" sz="4400" spc="-1" strike="noStrike">
              <a:solidFill>
                <a:srgbClr val="000000"/>
              </a:solidFill>
              <a:latin typeface="Times New Roman"/>
            </a:endParaRPr>
          </a:p>
        </p:txBody>
      </p:sp>
      <p:sp>
        <p:nvSpPr>
          <p:cNvPr id="181"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533520" y="1066320"/>
            <a:ext cx="8153280" cy="5108760"/>
          </a:xfrm>
          <a:prstGeom prst="rect">
            <a:avLst/>
          </a:prstGeom>
          <a:noFill/>
          <a:ln w="0">
            <a:noFill/>
          </a:ln>
        </p:spPr>
        <p:txBody>
          <a:bodyPr lIns="92160" rIns="92160" tIns="46080" bIns="46080" anchor="t">
            <a:normAutofit/>
          </a:bodyPr>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ime</a:t>
            </a:r>
            <a:br>
              <a:rPr sz="3200"/>
            </a:br>
            <a:r>
              <a:rPr b="0" lang="en-US" sz="2000" spc="-1" strike="noStrike">
                <a:solidFill>
                  <a:srgbClr val="000000"/>
                </a:solidFill>
                <a:latin typeface="Arial"/>
              </a:rPr>
              <a:t>[Don’t spend time investigating signals which are not relevant !]</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Resolution</a:t>
            </a:r>
            <a:br>
              <a:rPr sz="3200"/>
            </a:br>
            <a:r>
              <a:rPr b="0" lang="en-US" sz="2000" spc="-1" strike="noStrike">
                <a:solidFill>
                  <a:srgbClr val="000000"/>
                </a:solidFill>
                <a:latin typeface="Arial"/>
              </a:rPr>
              <a:t>[with a span of 400MHz and 400 points across the screen you can not resolve signal less the 1MHz ?]</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tart / Stop / Split Frequency</a:t>
            </a:r>
            <a:br>
              <a:rPr sz="3200"/>
            </a:br>
            <a:r>
              <a:rPr b="0" lang="en-US" sz="2000" spc="-1" strike="noStrike">
                <a:solidFill>
                  <a:srgbClr val="000000"/>
                </a:solidFill>
                <a:latin typeface="Arial"/>
              </a:rPr>
              <a:t>[May miss frequencies ?]</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Need is a test receiver ?</a:t>
            </a:r>
            <a:br>
              <a:rPr sz="3200"/>
            </a:br>
            <a:r>
              <a:rPr b="0" lang="en-US" sz="2000" spc="-1" strike="noStrike">
                <a:solidFill>
                  <a:srgbClr val="000000"/>
                </a:solidFill>
                <a:latin typeface="Arial"/>
              </a:rPr>
              <a:t>[They are generally easier to use with better preslection, noise floor, frequency accuracy but they are no good at spanning large frequency ranges, hence it is very difficult to make effective emission measurements with them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83"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Software Weakness</a:t>
            </a:r>
            <a:endParaRPr b="0" lang="en-US" sz="4400" spc="-1" strike="noStrike">
              <a:solidFill>
                <a:srgbClr val="000000"/>
              </a:solidFill>
              <a:latin typeface="Times New Roman"/>
            </a:endParaRPr>
          </a:p>
        </p:txBody>
      </p:sp>
      <p:sp>
        <p:nvSpPr>
          <p:cNvPr id="184"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p:nvPr>
        </p:nvSpPr>
        <p:spPr>
          <a:xfrm>
            <a:off x="457200" y="837720"/>
            <a:ext cx="8229600" cy="5867640"/>
          </a:xfrm>
          <a:prstGeom prst="rect">
            <a:avLst/>
          </a:prstGeom>
          <a:noFill/>
          <a:ln w="0">
            <a:noFill/>
          </a:ln>
        </p:spPr>
        <p:txBody>
          <a:bodyPr lIns="92160" rIns="92160" tIns="46080" bIns="46080" anchor="t">
            <a:normAutofit/>
          </a:bodyPr>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ime varying signals</a:t>
            </a:r>
            <a:br>
              <a:rPr sz="3200"/>
            </a:br>
            <a:r>
              <a:rPr b="0" lang="en-US" sz="2000" spc="-1" strike="noStrike">
                <a:solidFill>
                  <a:srgbClr val="000000"/>
                </a:solidFill>
                <a:latin typeface="Arial"/>
              </a:rPr>
              <a:t>[If you have a time varying signal it is very difficult for software to maximise the signal]</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ransient Signals</a:t>
            </a:r>
            <a:br>
              <a:rPr sz="3200"/>
            </a:br>
            <a:r>
              <a:rPr b="0" lang="en-US" sz="2000" spc="-1" strike="noStrike">
                <a:solidFill>
                  <a:srgbClr val="000000"/>
                </a:solidFill>
                <a:latin typeface="Arial"/>
              </a:rPr>
              <a:t>[Transients from ambients, EUT, turntables can fool software into think there is a higher peak than there actually is !]</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What is the correct frequency ?</a:t>
            </a:r>
            <a:br>
              <a:rPr sz="3200"/>
            </a:br>
            <a:r>
              <a:rPr b="0" lang="en-US" sz="2000" spc="-1" strike="noStrike">
                <a:solidFill>
                  <a:srgbClr val="000000"/>
                </a:solidFill>
                <a:latin typeface="Arial"/>
              </a:rPr>
              <a:t>[Analyser frequency accuracy is generally 2% of Span, hence in a 100MHz that is 2MHz, how can it give you the correct frequency when you zoom in to take a closer look !]</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tting accuracy of the turntables/towers</a:t>
            </a:r>
            <a:br>
              <a:rPr sz="3200"/>
            </a:br>
            <a:r>
              <a:rPr b="0" lang="en-US" sz="2000" spc="-1" strike="noStrike">
                <a:solidFill>
                  <a:srgbClr val="000000"/>
                </a:solidFill>
                <a:latin typeface="Arial"/>
              </a:rPr>
              <a:t>[Towers / Turntable have inertia and when the software states 45degrees, it may be at 41, plus  they may move too quickly to resolve the signal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86"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Software Weakness</a:t>
            </a:r>
            <a:endParaRPr b="0" lang="en-US" sz="4400" spc="-1" strike="noStrike">
              <a:solidFill>
                <a:srgbClr val="000000"/>
              </a:solidFill>
              <a:latin typeface="Times New Roman"/>
            </a:endParaRPr>
          </a:p>
        </p:txBody>
      </p:sp>
      <p:sp>
        <p:nvSpPr>
          <p:cNvPr id="187"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p:nvPr>
        </p:nvSpPr>
        <p:spPr>
          <a:xfrm>
            <a:off x="533520" y="837720"/>
            <a:ext cx="8153280" cy="5108760"/>
          </a:xfrm>
          <a:prstGeom prst="rect">
            <a:avLst/>
          </a:prstGeom>
          <a:noFill/>
          <a:ln w="0">
            <a:noFill/>
          </a:ln>
        </p:spPr>
        <p:txBody>
          <a:bodyPr lIns="92160" rIns="92160" tIns="46080" bIns="46080" anchor="t">
            <a:normAutofit/>
          </a:bodyPr>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nd peak routines</a:t>
            </a:r>
            <a:br>
              <a:rPr sz="3200"/>
            </a:br>
            <a:r>
              <a:rPr b="0" lang="en-US" sz="2000" spc="-1" strike="noStrike">
                <a:solidFill>
                  <a:srgbClr val="000000"/>
                </a:solidFill>
                <a:latin typeface="Arial"/>
              </a:rPr>
              <a:t>[Find peak routines work quite well but there is a “trade off” between finding all the signals and finding enough, it is no good find 15 narrow band signals on top a broadband signal]</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Narrow band signals</a:t>
            </a:r>
            <a:br>
              <a:rPr sz="3200"/>
            </a:br>
            <a:r>
              <a:rPr b="0" lang="en-US" sz="2000" spc="-1" strike="noStrike">
                <a:solidFill>
                  <a:srgbClr val="000000"/>
                </a:solidFill>
                <a:latin typeface="Arial"/>
              </a:rPr>
              <a:t>[Narrow band signal may be “masked” by broadband signals and hence ignored, if this broadband signal is above the average limit then this may lead to serious errors]</a:t>
            </a:r>
            <a:endParaRPr b="0" lang="en-US" sz="2000" spc="-1" strike="noStrike">
              <a:solidFill>
                <a:srgbClr val="000000"/>
              </a:solidFill>
              <a:latin typeface="Arial"/>
            </a:endParaRPr>
          </a:p>
          <a:p>
            <a:pPr marL="343080" indent="-343080">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bove 1GHz</a:t>
            </a:r>
            <a:br>
              <a:rPr sz="3200"/>
            </a:br>
            <a:r>
              <a:rPr b="0" lang="en-US" sz="2000" spc="-1" strike="noStrike">
                <a:solidFill>
                  <a:srgbClr val="000000"/>
                </a:solidFill>
                <a:latin typeface="Arial"/>
              </a:rPr>
              <a:t>[above 1GHz very large frequency spans have to covered, hence the only effective way of performing the test is with user interaction and manual manipu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89"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Time Varying Signal ?</a:t>
            </a:r>
            <a:endParaRPr b="0" lang="en-US" sz="4400" spc="-1" strike="noStrike">
              <a:solidFill>
                <a:srgbClr val="000000"/>
              </a:solidFill>
              <a:latin typeface="Times New Roman"/>
            </a:endParaRPr>
          </a:p>
        </p:txBody>
      </p:sp>
      <p:sp>
        <p:nvSpPr>
          <p:cNvPr id="190"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p:nvPr>
        </p:nvSpPr>
        <p:spPr>
          <a:xfrm>
            <a:off x="228600" y="914400"/>
            <a:ext cx="8763120" cy="55627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time varying signal measured whilst rotation of the turntable, how is the software going to find the worst case signal level/azimuth.</a:t>
            </a:r>
            <a:endParaRPr b="0" lang="en-US" sz="2800" spc="-1" strike="noStrike">
              <a:solidFill>
                <a:srgbClr val="000000"/>
              </a:solidFill>
              <a:latin typeface="Arial"/>
            </a:endParaRPr>
          </a:p>
        </p:txBody>
      </p:sp>
      <p:pic>
        <p:nvPicPr>
          <p:cNvPr id="192" name="" descr=""/>
          <p:cNvPicPr/>
          <p:nvPr/>
        </p:nvPicPr>
        <p:blipFill>
          <a:blip r:embed="rId1"/>
          <a:stretch/>
        </p:blipFill>
        <p:spPr>
          <a:xfrm>
            <a:off x="533520" y="2590920"/>
            <a:ext cx="8076960" cy="399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93"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Time Varying Signal ?</a:t>
            </a:r>
            <a:endParaRPr b="0" lang="en-US" sz="4400" spc="-1" strike="noStrike">
              <a:solidFill>
                <a:srgbClr val="000000"/>
              </a:solidFill>
              <a:latin typeface="Times New Roman"/>
            </a:endParaRPr>
          </a:p>
        </p:txBody>
      </p:sp>
      <p:sp>
        <p:nvSpPr>
          <p:cNvPr id="194"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1"/>
          <p:cNvSpPr>
            <a:spLocks noGrp="1"/>
          </p:cNvSpPr>
          <p:nvPr>
            <p:ph/>
          </p:nvPr>
        </p:nvSpPr>
        <p:spPr>
          <a:xfrm>
            <a:off x="228600" y="914040"/>
            <a:ext cx="8763120" cy="503244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time varying signal measured whilst changing height of the antenna, how is the software going to find the worst case signal level/height.</a:t>
            </a:r>
            <a:endParaRPr b="0" lang="en-US" sz="2800" spc="-1" strike="noStrike">
              <a:solidFill>
                <a:srgbClr val="000000"/>
              </a:solidFill>
              <a:latin typeface="Arial"/>
            </a:endParaRPr>
          </a:p>
        </p:txBody>
      </p:sp>
      <p:pic>
        <p:nvPicPr>
          <p:cNvPr id="196" name="" descr=""/>
          <p:cNvPicPr/>
          <p:nvPr/>
        </p:nvPicPr>
        <p:blipFill>
          <a:blip r:embed="rId1"/>
          <a:stretch/>
        </p:blipFill>
        <p:spPr>
          <a:xfrm>
            <a:off x="533520" y="2590920"/>
            <a:ext cx="8229600" cy="4071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97" name=""/>
          <p:cNvSpPr/>
          <p:nvPr/>
        </p:nvSpPr>
        <p:spPr>
          <a:xfrm>
            <a:off x="380880" y="152280"/>
            <a:ext cx="853308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Frequency Accuracy</a:t>
            </a:r>
            <a:endParaRPr b="0" lang="en-US" sz="4400" spc="-1" strike="noStrike">
              <a:solidFill>
                <a:srgbClr val="000000"/>
              </a:solidFill>
              <a:latin typeface="Times New Roman"/>
            </a:endParaRPr>
          </a:p>
        </p:txBody>
      </p:sp>
      <p:sp>
        <p:nvSpPr>
          <p:cNvPr id="198"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33520" y="2514600"/>
            <a:ext cx="8305560" cy="4203720"/>
          </a:xfrm>
          <a:prstGeom prst="rect">
            <a:avLst/>
          </a:prstGeom>
          <a:ln w="0">
            <a:noFill/>
          </a:ln>
        </p:spPr>
      </p:pic>
      <p:sp>
        <p:nvSpPr>
          <p:cNvPr id="200" name="PlaceHolder 1"/>
          <p:cNvSpPr>
            <a:spLocks noGrp="1"/>
          </p:cNvSpPr>
          <p:nvPr>
            <p:ph/>
          </p:nvPr>
        </p:nvSpPr>
        <p:spPr>
          <a:xfrm>
            <a:off x="228600" y="837720"/>
            <a:ext cx="8763120" cy="503244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ighlights frequency accuracy problems of analysers in large spans.  Trace 1, Trace 2 as previous defined and the “+” is the actual emission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201"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Effective Measurements</a:t>
            </a:r>
            <a:endParaRPr b="0" lang="en-US" sz="4400" spc="-1" strike="noStrike">
              <a:solidFill>
                <a:srgbClr val="000000"/>
              </a:solidFill>
              <a:latin typeface="Times New Roman"/>
            </a:endParaRPr>
          </a:p>
        </p:txBody>
      </p:sp>
      <p:sp>
        <p:nvSpPr>
          <p:cNvPr id="202" name="PlaceHolder 1"/>
          <p:cNvSpPr>
            <a:spLocks noGrp="1"/>
          </p:cNvSpPr>
          <p:nvPr>
            <p:ph/>
          </p:nvPr>
        </p:nvSpPr>
        <p:spPr>
          <a:xfrm>
            <a:off x="228240" y="914040"/>
            <a:ext cx="8915400" cy="57150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Quick Preview Method</a:t>
            </a:r>
            <a:endParaRPr b="0" lang="en-US" sz="32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Interactive test, not reliant fully on software</a:t>
            </a:r>
            <a:endParaRPr b="0" lang="en-US" sz="32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Good test procedure</a:t>
            </a:r>
            <a:endParaRPr b="0" lang="en-US" sz="32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etter understanding of equipment operation</a:t>
            </a:r>
            <a:endParaRPr b="0" lang="en-US" sz="32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Knowing the limitations of the test equipment</a:t>
            </a:r>
            <a:endParaRPr b="0" lang="en-US" sz="32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d……. with the use of VASONA, you too can make effective EMC measurements</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000000"/>
                </a:solidFill>
                <a:latin typeface="Arial"/>
              </a:rPr>
              <a:t>See the new presentation -</a:t>
            </a:r>
            <a:r>
              <a:rPr b="0" i="1" lang="en-US" sz="2800" spc="-1" strike="noStrike">
                <a:solidFill>
                  <a:srgbClr val="000000"/>
                </a:solidFill>
                <a:latin typeface="Arial"/>
              </a:rPr>
              <a:t>   </a:t>
            </a:r>
            <a:br>
              <a:rPr sz="2800"/>
            </a:br>
            <a:r>
              <a:rPr b="0" lang="en-US" sz="3200" spc="-1" strike="noStrike">
                <a:solidFill>
                  <a:srgbClr val="00cc99"/>
                </a:solidFill>
                <a:latin typeface="Arial"/>
              </a:rPr>
              <a:t>Vasona -Helping You to Make Effective EMC Measurement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12"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Objective</a:t>
            </a:r>
            <a:endParaRPr b="0" lang="en-US" sz="4400" spc="-1" strike="noStrike">
              <a:solidFill>
                <a:srgbClr val="000000"/>
              </a:solidFill>
              <a:latin typeface="Times New Roman"/>
            </a:endParaRPr>
          </a:p>
        </p:txBody>
      </p:sp>
      <p:sp>
        <p:nvSpPr>
          <p:cNvPr id="113" name="PlaceHolder 1"/>
          <p:cNvSpPr>
            <a:spLocks noGrp="1"/>
          </p:cNvSpPr>
          <p:nvPr>
            <p:ph/>
          </p:nvPr>
        </p:nvSpPr>
        <p:spPr>
          <a:xfrm>
            <a:off x="304920" y="1139400"/>
            <a:ext cx="8534160" cy="4573800"/>
          </a:xfrm>
          <a:prstGeom prst="rect">
            <a:avLst/>
          </a:prstGeom>
          <a:noFill/>
          <a:ln w="0">
            <a:noFill/>
          </a:ln>
        </p:spPr>
        <p:txBody>
          <a:bodyPr lIns="92160" rIns="92160" tIns="46080" bIns="46080" anchor="t">
            <a:normAutofit/>
          </a:bodyPr>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Make effective emission measurements</a:t>
            </a:r>
            <a:br>
              <a:rPr sz="3200"/>
            </a:br>
            <a:r>
              <a:rPr b="0" lang="en-US" sz="1800" spc="-1" strike="noStrike">
                <a:solidFill>
                  <a:srgbClr val="000000"/>
                </a:solidFill>
                <a:latin typeface="Arial"/>
              </a:rPr>
              <a:t>[Radiated / Conducted, open site or chamber]</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Repeatable measurements</a:t>
            </a:r>
            <a:br>
              <a:rPr sz="3200"/>
            </a:br>
            <a:r>
              <a:rPr b="0" lang="en-US" sz="1800" spc="-1" strike="noStrike">
                <a:solidFill>
                  <a:srgbClr val="000000"/>
                </a:solidFill>
                <a:latin typeface="Arial"/>
              </a:rPr>
              <a:t>[No point in doing a measurement if you can not repeat it]</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Use less chamber time</a:t>
            </a:r>
            <a:br>
              <a:rPr sz="3200"/>
            </a:br>
            <a:r>
              <a:rPr b="0" lang="en-US" sz="1800" spc="-1" strike="noStrike">
                <a:solidFill>
                  <a:srgbClr val="000000"/>
                </a:solidFill>
                <a:latin typeface="Arial"/>
              </a:rPr>
              <a:t>[Chambers are very expensive, they need to be used effectively]</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More relevant and accurate information from the time in the chamber !</a:t>
            </a:r>
            <a:br>
              <a:rPr sz="3200"/>
            </a:br>
            <a:r>
              <a:rPr b="0" lang="en-US" sz="1800" spc="-1" strike="noStrike">
                <a:solidFill>
                  <a:srgbClr val="000000"/>
                </a:solidFill>
                <a:latin typeface="Arial"/>
              </a:rPr>
              <a:t>[Attempt to eliminate possible sources of software, EUT and user erro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14"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How do we do this ?</a:t>
            </a:r>
            <a:endParaRPr b="0" lang="en-US" sz="4400" spc="-1" strike="noStrike">
              <a:solidFill>
                <a:srgbClr val="000000"/>
              </a:solidFill>
              <a:latin typeface="Times New Roman"/>
            </a:endParaRPr>
          </a:p>
        </p:txBody>
      </p:sp>
      <p:sp>
        <p:nvSpPr>
          <p:cNvPr id="115" name="PlaceHolder 1"/>
          <p:cNvSpPr>
            <a:spLocks noGrp="1"/>
          </p:cNvSpPr>
          <p:nvPr>
            <p:ph/>
          </p:nvPr>
        </p:nvSpPr>
        <p:spPr>
          <a:xfrm>
            <a:off x="228240" y="1139400"/>
            <a:ext cx="8915400" cy="5108760"/>
          </a:xfrm>
          <a:prstGeom prst="rect">
            <a:avLst/>
          </a:prstGeom>
          <a:noFill/>
          <a:ln w="0">
            <a:noFill/>
          </a:ln>
        </p:spPr>
        <p:txBody>
          <a:bodyPr lIns="92160" rIns="92160" tIns="46080" bIns="46080" anchor="t">
            <a:normAutofit/>
          </a:bodyPr>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Quick Preview Method</a:t>
            </a:r>
            <a:br>
              <a:rPr sz="3200"/>
            </a:br>
            <a:r>
              <a:rPr b="0" lang="en-US" sz="1800" spc="-1" strike="noStrike">
                <a:solidFill>
                  <a:srgbClr val="000000"/>
                </a:solidFill>
                <a:latin typeface="Arial"/>
              </a:rPr>
              <a:t>[why spend valuable time making measurements that have no relevance]</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Interactive test, not reliant fully on software</a:t>
            </a:r>
            <a:br>
              <a:rPr sz="3200"/>
            </a:br>
            <a:r>
              <a:rPr b="0" lang="en-US" sz="1800" spc="-1" strike="noStrike">
                <a:solidFill>
                  <a:srgbClr val="000000"/>
                </a:solidFill>
                <a:latin typeface="Arial"/>
              </a:rPr>
              <a:t>[software may not give you the correct answer, hence you can on rely on it to do certain functions]</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etter understanding of the test procedure</a:t>
            </a:r>
            <a:br>
              <a:rPr sz="3200"/>
            </a:br>
            <a:r>
              <a:rPr b="0" lang="en-US" sz="1800" spc="-1" strike="noStrike">
                <a:solidFill>
                  <a:srgbClr val="000000"/>
                </a:solidFill>
                <a:latin typeface="Arial"/>
              </a:rPr>
              <a:t>[Given processes needs to be well documented, followed plus training …etc ]</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etter understanding of equipment operation</a:t>
            </a:r>
            <a:br>
              <a:rPr sz="3200"/>
            </a:br>
            <a:r>
              <a:rPr b="0" lang="en-US" sz="1800" spc="-1" strike="noStrike">
                <a:solidFill>
                  <a:srgbClr val="000000"/>
                </a:solidFill>
                <a:latin typeface="Arial"/>
              </a:rPr>
              <a:t>[It helps to understand the operation of the equipment, then you can determine if it is doing the measurement correctly !]</a:t>
            </a:r>
            <a:endParaRPr b="0" lang="en-US" sz="1800" spc="-1" strike="noStrike">
              <a:solidFill>
                <a:srgbClr val="000000"/>
              </a:solidFill>
              <a:latin typeface="Arial"/>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Knowing the limitations of the test equipment</a:t>
            </a:r>
            <a:r>
              <a:rPr b="0" lang="en-US" sz="3200" spc="-1" strike="noStrike">
                <a:solidFill>
                  <a:srgbClr val="000000"/>
                </a:solidFill>
                <a:latin typeface="Arial"/>
              </a:rPr>
              <a:t> </a:t>
            </a:r>
            <a:br>
              <a:rPr sz="3200"/>
            </a:br>
            <a:r>
              <a:rPr b="0" lang="en-US" sz="1800" spc="-1" strike="noStrike">
                <a:solidFill>
                  <a:srgbClr val="000000"/>
                </a:solidFill>
                <a:latin typeface="Arial"/>
              </a:rPr>
              <a:t>[all equipment has limitations, knowledge of these will help you to perform better measurements, ie noise floor, overloading, frequency counter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16"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How do we do this ?</a:t>
            </a:r>
            <a:endParaRPr b="0" lang="en-US" sz="4400" spc="-1" strike="noStrike">
              <a:solidFill>
                <a:srgbClr val="000000"/>
              </a:solidFill>
              <a:latin typeface="Times New Roman"/>
            </a:endParaRPr>
          </a:p>
        </p:txBody>
      </p:sp>
      <p:sp>
        <p:nvSpPr>
          <p:cNvPr id="117" name="PlaceHolder 1"/>
          <p:cNvSpPr>
            <a:spLocks noGrp="1"/>
          </p:cNvSpPr>
          <p:nvPr>
            <p:ph/>
          </p:nvPr>
        </p:nvSpPr>
        <p:spPr>
          <a:xfrm>
            <a:off x="380520" y="911160"/>
            <a:ext cx="8610840" cy="564192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Quick Preview Method</a:t>
            </a:r>
            <a:endParaRPr b="0" lang="en-US" sz="32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pectrum Analyser Large Spans</a:t>
            </a:r>
            <a:endParaRPr b="0" lang="en-US" sz="28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hold function</a:t>
            </a:r>
            <a:endParaRPr b="0" lang="en-US" sz="28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rotation EUT</a:t>
            </a:r>
            <a:endParaRPr b="0" lang="en-US" sz="28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polarities</a:t>
            </a:r>
            <a:endParaRPr b="0" lang="en-US" sz="28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 Heights ?</a:t>
            </a:r>
            <a:endParaRPr b="0" lang="en-US" sz="2800" spc="-1" strike="noStrike">
              <a:solidFill>
                <a:srgbClr val="000000"/>
              </a:solidFill>
              <a:latin typeface="Arial"/>
            </a:endParaRPr>
          </a:p>
        </p:txBody>
      </p:sp>
      <p:sp>
        <p:nvSpPr>
          <p:cNvPr id="118" name=""/>
          <p:cNvSpPr/>
          <p:nvPr/>
        </p:nvSpPr>
        <p:spPr>
          <a:xfrm>
            <a:off x="365040" y="4876920"/>
            <a:ext cx="86266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ff"/>
                </a:solidFill>
                <a:latin typeface="Arial"/>
              </a:rPr>
              <a:t>Warning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ff"/>
                </a:solidFill>
                <a:latin typeface="Arial"/>
              </a:rPr>
              <a:t>Loose both Frequency + Amplitude Accuracy</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19"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Accuracy </a:t>
            </a:r>
            <a:r>
              <a:rPr b="0" lang="en-US" sz="2800" spc="-1" strike="noStrike">
                <a:solidFill>
                  <a:srgbClr val="cc00ff"/>
                </a:solidFill>
                <a:latin typeface="Arial"/>
              </a:rPr>
              <a:t>[of spectrum Analyzers]</a:t>
            </a:r>
            <a:endParaRPr b="0" lang="en-US" sz="2800" spc="-1" strike="noStrike">
              <a:solidFill>
                <a:srgbClr val="000000"/>
              </a:solidFill>
              <a:latin typeface="Times New Roman"/>
            </a:endParaRPr>
          </a:p>
        </p:txBody>
      </p:sp>
      <p:sp>
        <p:nvSpPr>
          <p:cNvPr id="120" name=""/>
          <p:cNvSpPr/>
          <p:nvPr/>
        </p:nvSpPr>
        <p:spPr>
          <a:xfrm>
            <a:off x="1295280" y="30178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p:nvPr>
        </p:nvSpPr>
        <p:spPr>
          <a:xfrm>
            <a:off x="533520" y="1066320"/>
            <a:ext cx="8153280" cy="510876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        frequency accuracy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        test tim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itude</a:t>
            </a:r>
            <a:endParaRPr b="0" lang="en-US" sz="32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k Detector - worst case</a:t>
            </a:r>
            <a:endParaRPr b="0" lang="en-US" sz="2800" spc="-1" strike="noStrike">
              <a:solidFill>
                <a:srgbClr val="000000"/>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simistic</a:t>
            </a:r>
            <a:endParaRPr b="0" lang="en-US" sz="2800" spc="-1" strike="noStrike">
              <a:solidFill>
                <a:srgbClr val="000000"/>
              </a:solidFill>
              <a:latin typeface="Arial"/>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 Resolu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        Signal Resolu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        Signal Resolutio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
          <p:cNvSpPr/>
          <p:nvPr/>
        </p:nvSpPr>
        <p:spPr>
          <a:xfrm>
            <a:off x="1987560" y="1682640"/>
            <a:ext cx="520560" cy="368280"/>
          </a:xfrm>
          <a:prstGeom prst="upArrow">
            <a:avLst>
              <a:gd name="adj1" fmla="val 50000"/>
              <a:gd name="adj2"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73760" y="1682640"/>
            <a:ext cx="520560" cy="368280"/>
          </a:xfrm>
          <a:prstGeom prst="downArrow">
            <a:avLst>
              <a:gd name="adj1" fmla="val 50000"/>
              <a:gd name="adj2" fmla="val 5000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87560" y="2216160"/>
            <a:ext cx="520560" cy="368280"/>
          </a:xfrm>
          <a:prstGeom prst="downArrow">
            <a:avLst>
              <a:gd name="adj1" fmla="val 50000"/>
              <a:gd name="adj2" fmla="val 5000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1280" y="2216160"/>
            <a:ext cx="520560" cy="368280"/>
          </a:xfrm>
          <a:prstGeom prst="upArrow">
            <a:avLst>
              <a:gd name="adj1" fmla="val 50000"/>
              <a:gd name="adj2"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981080" y="4952880"/>
            <a:ext cx="520920" cy="368280"/>
          </a:xfrm>
          <a:prstGeom prst="upArrow">
            <a:avLst>
              <a:gd name="adj1" fmla="val 50000"/>
              <a:gd name="adj2"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638680" y="5486400"/>
            <a:ext cx="520920" cy="368280"/>
          </a:xfrm>
          <a:prstGeom prst="upArrow">
            <a:avLst>
              <a:gd name="adj1" fmla="val 50000"/>
              <a:gd name="adj2"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4952880"/>
            <a:ext cx="520920" cy="368280"/>
          </a:xfrm>
          <a:prstGeom prst="downArrow">
            <a:avLst>
              <a:gd name="adj1" fmla="val 50000"/>
              <a:gd name="adj2" fmla="val 5000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81080" y="5562720"/>
            <a:ext cx="520920" cy="368280"/>
          </a:xfrm>
          <a:prstGeom prst="downArrow">
            <a:avLst>
              <a:gd name="adj1" fmla="val 50000"/>
              <a:gd name="adj2" fmla="val 5000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30"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Specification Limit</a:t>
            </a:r>
            <a:endParaRPr b="0" lang="en-US" sz="4400" spc="-1" strike="noStrike">
              <a:solidFill>
                <a:srgbClr val="000000"/>
              </a:solidFill>
              <a:latin typeface="Times New Roman"/>
            </a:endParaRPr>
          </a:p>
        </p:txBody>
      </p:sp>
      <p:sp>
        <p:nvSpPr>
          <p:cNvPr id="131" name="PlaceHolder 1"/>
          <p:cNvSpPr>
            <a:spLocks noGrp="1"/>
          </p:cNvSpPr>
          <p:nvPr>
            <p:ph/>
          </p:nvPr>
        </p:nvSpPr>
        <p:spPr>
          <a:xfrm>
            <a:off x="533520" y="837720"/>
            <a:ext cx="8153280" cy="579132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is was the entire profile why worry about signals greater than 10dB below the limit !</a:t>
            </a:r>
            <a:endParaRPr b="0" lang="en-US" sz="2800" spc="-1" strike="noStrike">
              <a:solidFill>
                <a:srgbClr val="000000"/>
              </a:solidFill>
              <a:latin typeface="Arial"/>
            </a:endParaRPr>
          </a:p>
        </p:txBody>
      </p:sp>
      <p:grpSp>
        <p:nvGrpSpPr>
          <p:cNvPr id="132" name=""/>
          <p:cNvGrpSpPr/>
          <p:nvPr/>
        </p:nvGrpSpPr>
        <p:grpSpPr>
          <a:xfrm>
            <a:off x="528480" y="2666880"/>
            <a:ext cx="7937640" cy="3962520"/>
            <a:chOff x="528480" y="2666880"/>
            <a:chExt cx="7937640" cy="3962520"/>
          </a:xfrm>
        </p:grpSpPr>
        <p:sp>
          <p:nvSpPr>
            <p:cNvPr id="133" name=""/>
            <p:cNvSpPr/>
            <p:nvPr/>
          </p:nvSpPr>
          <p:spPr>
            <a:xfrm>
              <a:off x="1295280" y="355140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2666880"/>
              <a:ext cx="7924680" cy="396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520" y="4267080"/>
              <a:ext cx="5209920" cy="5040"/>
            </a:xfrm>
            <a:custGeom>
              <a:avLst/>
              <a:gdLst/>
              <a:ahLst/>
              <a:rect l="l" t="t" r="r" b="b"/>
              <a:pathLst>
                <a:path w="3282" h="3">
                  <a:moveTo>
                    <a:pt x="0" y="3"/>
                  </a:moveTo>
                  <a:lnTo>
                    <a:pt x="3282"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6" name=""/>
            <p:cNvSpPr/>
            <p:nvPr/>
          </p:nvSpPr>
          <p:spPr>
            <a:xfrm flipV="1">
              <a:off x="5715000" y="35053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35053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743440" y="3960360"/>
              <a:ext cx="0" cy="7621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43440" y="3956040"/>
              <a:ext cx="2722680" cy="4680"/>
            </a:xfrm>
            <a:custGeom>
              <a:avLst/>
              <a:gdLst/>
              <a:ahLst/>
              <a:rect l="l" t="t" r="r" b="b"/>
              <a:pathLst>
                <a:path w="1715" h="3">
                  <a:moveTo>
                    <a:pt x="0" y="3"/>
                  </a:moveTo>
                  <a:lnTo>
                    <a:pt x="1715" y="0"/>
                  </a:lnTo>
                </a:path>
              </a:pathLst>
            </a:custGeom>
            <a:noFill/>
            <a:ln w="12600">
              <a:solidFill>
                <a:srgbClr val="00cc99"/>
              </a:solidFill>
              <a:round/>
            </a:ln>
          </p:spPr>
          <p:style>
            <a:lnRef idx="0"/>
            <a:fillRef idx="0"/>
            <a:effectRef idx="0"/>
            <a:fontRef idx="minor"/>
          </p:style>
          <p:txBody>
            <a:bodyPr wrap="none" tIns="-41040" bIns="-41040" anchor="ctr">
              <a:noAutofit/>
            </a:bodyPr>
            <a:p>
              <a:endParaRPr b="0" lang="en-US" sz="2400" spc="-1" strike="noStrike">
                <a:solidFill>
                  <a:srgbClr val="000000"/>
                </a:solidFill>
                <a:latin typeface="Times New Roman"/>
              </a:endParaRPr>
            </a:p>
          </p:txBody>
        </p:sp>
        <p:sp>
          <p:nvSpPr>
            <p:cNvPr id="140" name=""/>
            <p:cNvSpPr/>
            <p:nvPr/>
          </p:nvSpPr>
          <p:spPr>
            <a:xfrm flipH="1">
              <a:off x="533160" y="4724280"/>
              <a:ext cx="5181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8480" y="3414600"/>
              <a:ext cx="7937640" cy="2889360"/>
            </a:xfrm>
            <a:custGeom>
              <a:avLst/>
              <a:gdLst/>
              <a:ahLst/>
              <a:rect l="l" t="t" r="r" b="b"/>
              <a:pathLst>
                <a:path w="5000" h="1820">
                  <a:moveTo>
                    <a:pt x="0" y="1296"/>
                  </a:moveTo>
                  <a:cubicBezTo>
                    <a:pt x="15" y="1294"/>
                    <a:pt x="31" y="1296"/>
                    <a:pt x="45" y="1289"/>
                  </a:cubicBezTo>
                  <a:cubicBezTo>
                    <a:pt x="53" y="1285"/>
                    <a:pt x="53" y="1273"/>
                    <a:pt x="60" y="1267"/>
                  </a:cubicBezTo>
                  <a:cubicBezTo>
                    <a:pt x="63" y="1265"/>
                    <a:pt x="101" y="1253"/>
                    <a:pt x="104" y="1252"/>
                  </a:cubicBezTo>
                  <a:cubicBezTo>
                    <a:pt x="185" y="1197"/>
                    <a:pt x="67" y="1267"/>
                    <a:pt x="148" y="1252"/>
                  </a:cubicBezTo>
                  <a:cubicBezTo>
                    <a:pt x="157" y="1250"/>
                    <a:pt x="155" y="1234"/>
                    <a:pt x="163" y="1230"/>
                  </a:cubicBezTo>
                  <a:cubicBezTo>
                    <a:pt x="179" y="1223"/>
                    <a:pt x="198" y="1225"/>
                    <a:pt x="215" y="1222"/>
                  </a:cubicBezTo>
                  <a:cubicBezTo>
                    <a:pt x="249" y="1211"/>
                    <a:pt x="281" y="1212"/>
                    <a:pt x="311" y="1193"/>
                  </a:cubicBezTo>
                  <a:cubicBezTo>
                    <a:pt x="326" y="1171"/>
                    <a:pt x="334" y="1141"/>
                    <a:pt x="356" y="1126"/>
                  </a:cubicBezTo>
                  <a:cubicBezTo>
                    <a:pt x="381" y="1109"/>
                    <a:pt x="398" y="1092"/>
                    <a:pt x="415" y="1067"/>
                  </a:cubicBezTo>
                  <a:cubicBezTo>
                    <a:pt x="442" y="979"/>
                    <a:pt x="412" y="1292"/>
                    <a:pt x="482" y="1222"/>
                  </a:cubicBezTo>
                  <a:cubicBezTo>
                    <a:pt x="487" y="1208"/>
                    <a:pt x="498" y="1364"/>
                    <a:pt x="504" y="1356"/>
                  </a:cubicBezTo>
                  <a:cubicBezTo>
                    <a:pt x="508" y="1350"/>
                    <a:pt x="541" y="1513"/>
                    <a:pt x="548" y="1511"/>
                  </a:cubicBezTo>
                  <a:cubicBezTo>
                    <a:pt x="558" y="1513"/>
                    <a:pt x="584" y="1387"/>
                    <a:pt x="593" y="1393"/>
                  </a:cubicBezTo>
                  <a:cubicBezTo>
                    <a:pt x="614" y="1407"/>
                    <a:pt x="604" y="1356"/>
                    <a:pt x="608" y="1370"/>
                  </a:cubicBezTo>
                  <a:cubicBezTo>
                    <a:pt x="616" y="1397"/>
                    <a:pt x="613" y="1208"/>
                    <a:pt x="637" y="1215"/>
                  </a:cubicBezTo>
                  <a:cubicBezTo>
                    <a:pt x="665" y="1268"/>
                    <a:pt x="652" y="1194"/>
                    <a:pt x="719" y="1207"/>
                  </a:cubicBezTo>
                  <a:cubicBezTo>
                    <a:pt x="753" y="1230"/>
                    <a:pt x="759" y="1209"/>
                    <a:pt x="800" y="1200"/>
                  </a:cubicBezTo>
                  <a:cubicBezTo>
                    <a:pt x="829" y="1172"/>
                    <a:pt x="846" y="942"/>
                    <a:pt x="867" y="911"/>
                  </a:cubicBezTo>
                  <a:cubicBezTo>
                    <a:pt x="881" y="868"/>
                    <a:pt x="895" y="1040"/>
                    <a:pt x="934" y="1015"/>
                  </a:cubicBezTo>
                  <a:cubicBezTo>
                    <a:pt x="969" y="1039"/>
                    <a:pt x="1071" y="1318"/>
                    <a:pt x="1111" y="1333"/>
                  </a:cubicBezTo>
                  <a:cubicBezTo>
                    <a:pt x="1136" y="1324"/>
                    <a:pt x="1104" y="1585"/>
                    <a:pt x="1126" y="1570"/>
                  </a:cubicBezTo>
                  <a:cubicBezTo>
                    <a:pt x="1136" y="1511"/>
                    <a:pt x="1131" y="1206"/>
                    <a:pt x="1141" y="1148"/>
                  </a:cubicBezTo>
                  <a:cubicBezTo>
                    <a:pt x="1151" y="1090"/>
                    <a:pt x="1175" y="1218"/>
                    <a:pt x="1185" y="1222"/>
                  </a:cubicBezTo>
                  <a:cubicBezTo>
                    <a:pt x="1195" y="1226"/>
                    <a:pt x="1196" y="1192"/>
                    <a:pt x="1200" y="1170"/>
                  </a:cubicBezTo>
                  <a:cubicBezTo>
                    <a:pt x="1163" y="1363"/>
                    <a:pt x="1186" y="1154"/>
                    <a:pt x="1208" y="1089"/>
                  </a:cubicBezTo>
                  <a:cubicBezTo>
                    <a:pt x="1210" y="1082"/>
                    <a:pt x="1209" y="1761"/>
                    <a:pt x="1215" y="1756"/>
                  </a:cubicBezTo>
                  <a:cubicBezTo>
                    <a:pt x="1223" y="1749"/>
                    <a:pt x="1264" y="1284"/>
                    <a:pt x="1274" y="1281"/>
                  </a:cubicBezTo>
                  <a:cubicBezTo>
                    <a:pt x="1313" y="1290"/>
                    <a:pt x="1371" y="1737"/>
                    <a:pt x="1393" y="1770"/>
                  </a:cubicBezTo>
                  <a:cubicBezTo>
                    <a:pt x="1409" y="1820"/>
                    <a:pt x="1422" y="1568"/>
                    <a:pt x="1430" y="1622"/>
                  </a:cubicBezTo>
                  <a:cubicBezTo>
                    <a:pt x="1432" y="1634"/>
                    <a:pt x="1487" y="1396"/>
                    <a:pt x="1489" y="1400"/>
                  </a:cubicBezTo>
                  <a:cubicBezTo>
                    <a:pt x="1518" y="1464"/>
                    <a:pt x="1474" y="1050"/>
                    <a:pt x="1534" y="1089"/>
                  </a:cubicBezTo>
                  <a:cubicBezTo>
                    <a:pt x="1546" y="1143"/>
                    <a:pt x="1571" y="1702"/>
                    <a:pt x="1615" y="1741"/>
                  </a:cubicBezTo>
                  <a:cubicBezTo>
                    <a:pt x="1629" y="1753"/>
                    <a:pt x="1630" y="1264"/>
                    <a:pt x="1645" y="1274"/>
                  </a:cubicBezTo>
                  <a:cubicBezTo>
                    <a:pt x="1652" y="1279"/>
                    <a:pt x="1682" y="1748"/>
                    <a:pt x="1682" y="1748"/>
                  </a:cubicBezTo>
                  <a:cubicBezTo>
                    <a:pt x="1697" y="1770"/>
                    <a:pt x="1696" y="1334"/>
                    <a:pt x="1711" y="1356"/>
                  </a:cubicBezTo>
                  <a:cubicBezTo>
                    <a:pt x="1716" y="1363"/>
                    <a:pt x="1741" y="1467"/>
                    <a:pt x="1741" y="1467"/>
                  </a:cubicBezTo>
                  <a:cubicBezTo>
                    <a:pt x="1781" y="1463"/>
                    <a:pt x="1810" y="1382"/>
                    <a:pt x="1845" y="1363"/>
                  </a:cubicBezTo>
                  <a:cubicBezTo>
                    <a:pt x="1889" y="1338"/>
                    <a:pt x="1880" y="1517"/>
                    <a:pt x="1896" y="1474"/>
                  </a:cubicBezTo>
                  <a:cubicBezTo>
                    <a:pt x="1915" y="1309"/>
                    <a:pt x="1901" y="1182"/>
                    <a:pt x="1933" y="1015"/>
                  </a:cubicBezTo>
                  <a:cubicBezTo>
                    <a:pt x="1966" y="1048"/>
                    <a:pt x="1969" y="0"/>
                    <a:pt x="1985" y="44"/>
                  </a:cubicBezTo>
                  <a:cubicBezTo>
                    <a:pt x="2006" y="102"/>
                    <a:pt x="2011" y="971"/>
                    <a:pt x="2030" y="1030"/>
                  </a:cubicBezTo>
                  <a:cubicBezTo>
                    <a:pt x="2051" y="1096"/>
                    <a:pt x="2073" y="1162"/>
                    <a:pt x="2089" y="1230"/>
                  </a:cubicBezTo>
                  <a:cubicBezTo>
                    <a:pt x="2099" y="1272"/>
                    <a:pt x="2117" y="1305"/>
                    <a:pt x="2141" y="1341"/>
                  </a:cubicBezTo>
                  <a:cubicBezTo>
                    <a:pt x="2151" y="1356"/>
                    <a:pt x="2168" y="1364"/>
                    <a:pt x="2185" y="1370"/>
                  </a:cubicBezTo>
                  <a:cubicBezTo>
                    <a:pt x="2200" y="1375"/>
                    <a:pt x="2230" y="1385"/>
                    <a:pt x="2230" y="1385"/>
                  </a:cubicBezTo>
                  <a:cubicBezTo>
                    <a:pt x="2293" y="1428"/>
                    <a:pt x="2405" y="1403"/>
                    <a:pt x="2467" y="1400"/>
                  </a:cubicBezTo>
                  <a:cubicBezTo>
                    <a:pt x="2505" y="1388"/>
                    <a:pt x="2513" y="1351"/>
                    <a:pt x="2533" y="1319"/>
                  </a:cubicBezTo>
                  <a:cubicBezTo>
                    <a:pt x="2541" y="1289"/>
                    <a:pt x="2545" y="1259"/>
                    <a:pt x="2556" y="1230"/>
                  </a:cubicBezTo>
                  <a:cubicBezTo>
                    <a:pt x="2566" y="1166"/>
                    <a:pt x="2557" y="1100"/>
                    <a:pt x="2570" y="1037"/>
                  </a:cubicBezTo>
                  <a:cubicBezTo>
                    <a:pt x="2577" y="1003"/>
                    <a:pt x="2642" y="978"/>
                    <a:pt x="2667" y="963"/>
                  </a:cubicBezTo>
                  <a:cubicBezTo>
                    <a:pt x="2682" y="954"/>
                    <a:pt x="2711" y="933"/>
                    <a:pt x="2711" y="933"/>
                  </a:cubicBezTo>
                  <a:cubicBezTo>
                    <a:pt x="2728" y="904"/>
                    <a:pt x="2738" y="883"/>
                    <a:pt x="2748" y="852"/>
                  </a:cubicBezTo>
                  <a:cubicBezTo>
                    <a:pt x="2751" y="832"/>
                    <a:pt x="2778" y="818"/>
                    <a:pt x="2785" y="800"/>
                  </a:cubicBezTo>
                  <a:cubicBezTo>
                    <a:pt x="2798" y="767"/>
                    <a:pt x="2894" y="763"/>
                    <a:pt x="2896" y="763"/>
                  </a:cubicBezTo>
                  <a:cubicBezTo>
                    <a:pt x="2939" y="750"/>
                    <a:pt x="2976" y="718"/>
                    <a:pt x="3015" y="696"/>
                  </a:cubicBezTo>
                  <a:cubicBezTo>
                    <a:pt x="3026" y="680"/>
                    <a:pt x="3047" y="671"/>
                    <a:pt x="3052" y="652"/>
                  </a:cubicBezTo>
                  <a:cubicBezTo>
                    <a:pt x="3060" y="621"/>
                    <a:pt x="3055" y="588"/>
                    <a:pt x="3059" y="556"/>
                  </a:cubicBezTo>
                  <a:cubicBezTo>
                    <a:pt x="3064" y="513"/>
                    <a:pt x="3069" y="211"/>
                    <a:pt x="3082" y="170"/>
                  </a:cubicBezTo>
                  <a:cubicBezTo>
                    <a:pt x="3125" y="184"/>
                    <a:pt x="3133" y="478"/>
                    <a:pt x="3141" y="518"/>
                  </a:cubicBezTo>
                  <a:cubicBezTo>
                    <a:pt x="3149" y="560"/>
                    <a:pt x="3175" y="682"/>
                    <a:pt x="3193" y="711"/>
                  </a:cubicBezTo>
                  <a:cubicBezTo>
                    <a:pt x="3205" y="730"/>
                    <a:pt x="3224" y="744"/>
                    <a:pt x="3237" y="763"/>
                  </a:cubicBezTo>
                  <a:cubicBezTo>
                    <a:pt x="3252" y="827"/>
                    <a:pt x="3298" y="841"/>
                    <a:pt x="3319" y="896"/>
                  </a:cubicBezTo>
                  <a:cubicBezTo>
                    <a:pt x="3339" y="949"/>
                    <a:pt x="3383" y="989"/>
                    <a:pt x="3415" y="1037"/>
                  </a:cubicBezTo>
                  <a:cubicBezTo>
                    <a:pt x="3421" y="1046"/>
                    <a:pt x="3435" y="1045"/>
                    <a:pt x="3444" y="1052"/>
                  </a:cubicBezTo>
                  <a:cubicBezTo>
                    <a:pt x="3455" y="1060"/>
                    <a:pt x="3464" y="1071"/>
                    <a:pt x="3474" y="1081"/>
                  </a:cubicBezTo>
                  <a:cubicBezTo>
                    <a:pt x="3504" y="1079"/>
                    <a:pt x="3534" y="1081"/>
                    <a:pt x="3563" y="1074"/>
                  </a:cubicBezTo>
                  <a:cubicBezTo>
                    <a:pt x="3589" y="1068"/>
                    <a:pt x="3612" y="1025"/>
                    <a:pt x="3630" y="1007"/>
                  </a:cubicBezTo>
                  <a:cubicBezTo>
                    <a:pt x="3645" y="976"/>
                    <a:pt x="3655" y="944"/>
                    <a:pt x="3667" y="911"/>
                  </a:cubicBezTo>
                  <a:cubicBezTo>
                    <a:pt x="3709" y="977"/>
                    <a:pt x="3711" y="1094"/>
                    <a:pt x="3785" y="1126"/>
                  </a:cubicBezTo>
                  <a:cubicBezTo>
                    <a:pt x="3811" y="1137"/>
                    <a:pt x="3846" y="1142"/>
                    <a:pt x="3874" y="1148"/>
                  </a:cubicBezTo>
                  <a:cubicBezTo>
                    <a:pt x="3931" y="1141"/>
                    <a:pt x="3943" y="1133"/>
                    <a:pt x="4000" y="1156"/>
                  </a:cubicBezTo>
                  <a:cubicBezTo>
                    <a:pt x="4048" y="1175"/>
                    <a:pt x="4088" y="1227"/>
                    <a:pt x="4126" y="1259"/>
                  </a:cubicBezTo>
                  <a:cubicBezTo>
                    <a:pt x="4170" y="1296"/>
                    <a:pt x="4206" y="1309"/>
                    <a:pt x="4259" y="1326"/>
                  </a:cubicBezTo>
                  <a:cubicBezTo>
                    <a:pt x="4281" y="1324"/>
                    <a:pt x="4304" y="1324"/>
                    <a:pt x="4326" y="1319"/>
                  </a:cubicBezTo>
                  <a:cubicBezTo>
                    <a:pt x="4365" y="1309"/>
                    <a:pt x="4388" y="1227"/>
                    <a:pt x="4430" y="1200"/>
                  </a:cubicBezTo>
                  <a:cubicBezTo>
                    <a:pt x="4485" y="1217"/>
                    <a:pt x="4526" y="1274"/>
                    <a:pt x="4570" y="1311"/>
                  </a:cubicBezTo>
                  <a:cubicBezTo>
                    <a:pt x="4590" y="1366"/>
                    <a:pt x="4614" y="1345"/>
                    <a:pt x="4659" y="1333"/>
                  </a:cubicBezTo>
                  <a:cubicBezTo>
                    <a:pt x="4668" y="1322"/>
                    <a:pt x="4689" y="1295"/>
                    <a:pt x="4696" y="1281"/>
                  </a:cubicBezTo>
                  <a:cubicBezTo>
                    <a:pt x="4708" y="1258"/>
                    <a:pt x="4711" y="1237"/>
                    <a:pt x="4726" y="1215"/>
                  </a:cubicBezTo>
                  <a:cubicBezTo>
                    <a:pt x="4749" y="1144"/>
                    <a:pt x="4743" y="1056"/>
                    <a:pt x="4748" y="985"/>
                  </a:cubicBezTo>
                  <a:cubicBezTo>
                    <a:pt x="4752" y="924"/>
                    <a:pt x="4750" y="886"/>
                    <a:pt x="4800" y="852"/>
                  </a:cubicBezTo>
                  <a:cubicBezTo>
                    <a:pt x="4846" y="788"/>
                    <a:pt x="4816" y="797"/>
                    <a:pt x="4881" y="807"/>
                  </a:cubicBezTo>
                  <a:cubicBezTo>
                    <a:pt x="4891" y="792"/>
                    <a:pt x="4901" y="778"/>
                    <a:pt x="4911" y="763"/>
                  </a:cubicBezTo>
                  <a:cubicBezTo>
                    <a:pt x="4920" y="750"/>
                    <a:pt x="4926" y="718"/>
                    <a:pt x="4926" y="718"/>
                  </a:cubicBezTo>
                  <a:cubicBezTo>
                    <a:pt x="4928" y="681"/>
                    <a:pt x="4929" y="644"/>
                    <a:pt x="4933" y="607"/>
                  </a:cubicBezTo>
                  <a:cubicBezTo>
                    <a:pt x="4937" y="571"/>
                    <a:pt x="4959" y="531"/>
                    <a:pt x="4970" y="496"/>
                  </a:cubicBezTo>
                  <a:cubicBezTo>
                    <a:pt x="4981" y="462"/>
                    <a:pt x="4976" y="471"/>
                    <a:pt x="4985" y="437"/>
                  </a:cubicBezTo>
                  <a:cubicBezTo>
                    <a:pt x="4989" y="422"/>
                    <a:pt x="5000" y="393"/>
                    <a:pt x="5000" y="393"/>
                  </a:cubicBezTo>
                </a:path>
              </a:pathLst>
            </a:custGeom>
            <a:noFill/>
            <a:ln w="1260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42"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Signals of interest</a:t>
            </a:r>
            <a:endParaRPr b="0" lang="en-US" sz="4400" spc="-1" strike="noStrike">
              <a:solidFill>
                <a:srgbClr val="000000"/>
              </a:solidFill>
              <a:latin typeface="Times New Roman"/>
            </a:endParaRPr>
          </a:p>
        </p:txBody>
      </p:sp>
      <p:sp>
        <p:nvSpPr>
          <p:cNvPr id="143" name=""/>
          <p:cNvSpPr/>
          <p:nvPr/>
        </p:nvSpPr>
        <p:spPr>
          <a:xfrm>
            <a:off x="1295280" y="3475080"/>
            <a:ext cx="3368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533520" y="1066320"/>
            <a:ext cx="8153280" cy="510876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terested in the two signals Highlighted</a:t>
            </a:r>
            <a:endParaRPr b="0" lang="en-US" sz="2800" spc="-1" strike="noStrike">
              <a:solidFill>
                <a:srgbClr val="000000"/>
              </a:solidFill>
              <a:latin typeface="Arial"/>
            </a:endParaRPr>
          </a:p>
        </p:txBody>
      </p:sp>
      <p:sp>
        <p:nvSpPr>
          <p:cNvPr id="145" name=""/>
          <p:cNvSpPr/>
          <p:nvPr/>
        </p:nvSpPr>
        <p:spPr>
          <a:xfrm>
            <a:off x="533520" y="2590920"/>
            <a:ext cx="7924680" cy="39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3520" y="4191120"/>
            <a:ext cx="5209920" cy="4680"/>
          </a:xfrm>
          <a:custGeom>
            <a:avLst/>
            <a:gdLst/>
            <a:ahLst/>
            <a:rect l="l" t="t" r="r" b="b"/>
            <a:pathLst>
              <a:path w="3282" h="3">
                <a:moveTo>
                  <a:pt x="0" y="3"/>
                </a:moveTo>
                <a:lnTo>
                  <a:pt x="3282"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7" name=""/>
          <p:cNvSpPr/>
          <p:nvPr/>
        </p:nvSpPr>
        <p:spPr>
          <a:xfrm flipV="1">
            <a:off x="5715000" y="342864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15000" y="342900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743440" y="3884760"/>
            <a:ext cx="0" cy="7617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43440" y="3879720"/>
            <a:ext cx="2722680" cy="5040"/>
          </a:xfrm>
          <a:custGeom>
            <a:avLst/>
            <a:gdLst/>
            <a:ahLst/>
            <a:rect l="l" t="t" r="r" b="b"/>
            <a:pathLst>
              <a:path w="1715" h="3">
                <a:moveTo>
                  <a:pt x="0" y="3"/>
                </a:moveTo>
                <a:lnTo>
                  <a:pt x="1715" y="0"/>
                </a:lnTo>
              </a:path>
            </a:pathLst>
          </a:custGeom>
          <a:noFill/>
          <a:ln w="12600">
            <a:solidFill>
              <a:srgbClr val="00cc99"/>
            </a:solidFill>
            <a:round/>
          </a:ln>
        </p:spPr>
        <p:style>
          <a:lnRef idx="0"/>
          <a:fillRef idx="0"/>
          <a:effectRef idx="0"/>
          <a:fontRef idx="minor"/>
        </p:style>
        <p:txBody>
          <a:bodyPr wrap="none" tIns="-40680" bIns="-40680" anchor="ctr">
            <a:noAutofit/>
          </a:bodyPr>
          <a:p>
            <a:endParaRPr b="0" lang="en-US" sz="2400" spc="-1" strike="noStrike">
              <a:solidFill>
                <a:srgbClr val="000000"/>
              </a:solidFill>
              <a:latin typeface="Times New Roman"/>
            </a:endParaRPr>
          </a:p>
        </p:txBody>
      </p:sp>
      <p:sp>
        <p:nvSpPr>
          <p:cNvPr id="151" name=""/>
          <p:cNvSpPr/>
          <p:nvPr/>
        </p:nvSpPr>
        <p:spPr>
          <a:xfrm flipH="1">
            <a:off x="533160" y="4648320"/>
            <a:ext cx="5181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3276720"/>
            <a:ext cx="228600" cy="228600"/>
          </a:xfrm>
          <a:prstGeom prst="flowChartSummingJunction">
            <a:avLst/>
          </a:prstGeom>
          <a:solidFill>
            <a:srgbClr val="868686">
              <a:alpha val="50000"/>
            </a:srgbClr>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8480" y="3338640"/>
            <a:ext cx="7937640" cy="2889000"/>
          </a:xfrm>
          <a:custGeom>
            <a:avLst/>
            <a:gdLst/>
            <a:ahLst/>
            <a:rect l="l" t="t" r="r" b="b"/>
            <a:pathLst>
              <a:path w="5000" h="1820">
                <a:moveTo>
                  <a:pt x="0" y="1296"/>
                </a:moveTo>
                <a:cubicBezTo>
                  <a:pt x="15" y="1294"/>
                  <a:pt x="31" y="1296"/>
                  <a:pt x="45" y="1289"/>
                </a:cubicBezTo>
                <a:cubicBezTo>
                  <a:pt x="53" y="1285"/>
                  <a:pt x="53" y="1273"/>
                  <a:pt x="60" y="1267"/>
                </a:cubicBezTo>
                <a:cubicBezTo>
                  <a:pt x="63" y="1265"/>
                  <a:pt x="101" y="1253"/>
                  <a:pt x="104" y="1252"/>
                </a:cubicBezTo>
                <a:cubicBezTo>
                  <a:pt x="185" y="1197"/>
                  <a:pt x="67" y="1267"/>
                  <a:pt x="148" y="1252"/>
                </a:cubicBezTo>
                <a:cubicBezTo>
                  <a:pt x="157" y="1250"/>
                  <a:pt x="155" y="1234"/>
                  <a:pt x="163" y="1230"/>
                </a:cubicBezTo>
                <a:cubicBezTo>
                  <a:pt x="179" y="1223"/>
                  <a:pt x="198" y="1225"/>
                  <a:pt x="215" y="1222"/>
                </a:cubicBezTo>
                <a:cubicBezTo>
                  <a:pt x="249" y="1211"/>
                  <a:pt x="281" y="1212"/>
                  <a:pt x="311" y="1193"/>
                </a:cubicBezTo>
                <a:cubicBezTo>
                  <a:pt x="326" y="1171"/>
                  <a:pt x="334" y="1141"/>
                  <a:pt x="356" y="1126"/>
                </a:cubicBezTo>
                <a:cubicBezTo>
                  <a:pt x="381" y="1109"/>
                  <a:pt x="398" y="1092"/>
                  <a:pt x="415" y="1067"/>
                </a:cubicBezTo>
                <a:cubicBezTo>
                  <a:pt x="442" y="979"/>
                  <a:pt x="412" y="1292"/>
                  <a:pt x="482" y="1222"/>
                </a:cubicBezTo>
                <a:cubicBezTo>
                  <a:pt x="487" y="1208"/>
                  <a:pt x="498" y="1364"/>
                  <a:pt x="504" y="1356"/>
                </a:cubicBezTo>
                <a:cubicBezTo>
                  <a:pt x="508" y="1350"/>
                  <a:pt x="541" y="1513"/>
                  <a:pt x="548" y="1511"/>
                </a:cubicBezTo>
                <a:cubicBezTo>
                  <a:pt x="558" y="1513"/>
                  <a:pt x="584" y="1387"/>
                  <a:pt x="593" y="1393"/>
                </a:cubicBezTo>
                <a:cubicBezTo>
                  <a:pt x="614" y="1407"/>
                  <a:pt x="604" y="1356"/>
                  <a:pt x="608" y="1370"/>
                </a:cubicBezTo>
                <a:cubicBezTo>
                  <a:pt x="616" y="1397"/>
                  <a:pt x="613" y="1208"/>
                  <a:pt x="637" y="1215"/>
                </a:cubicBezTo>
                <a:cubicBezTo>
                  <a:pt x="665" y="1268"/>
                  <a:pt x="652" y="1194"/>
                  <a:pt x="719" y="1207"/>
                </a:cubicBezTo>
                <a:cubicBezTo>
                  <a:pt x="753" y="1230"/>
                  <a:pt x="759" y="1209"/>
                  <a:pt x="800" y="1200"/>
                </a:cubicBezTo>
                <a:cubicBezTo>
                  <a:pt x="829" y="1172"/>
                  <a:pt x="846" y="942"/>
                  <a:pt x="867" y="911"/>
                </a:cubicBezTo>
                <a:cubicBezTo>
                  <a:pt x="881" y="868"/>
                  <a:pt x="895" y="1040"/>
                  <a:pt x="934" y="1015"/>
                </a:cubicBezTo>
                <a:cubicBezTo>
                  <a:pt x="969" y="1039"/>
                  <a:pt x="1071" y="1318"/>
                  <a:pt x="1111" y="1333"/>
                </a:cubicBezTo>
                <a:cubicBezTo>
                  <a:pt x="1136" y="1324"/>
                  <a:pt x="1104" y="1585"/>
                  <a:pt x="1126" y="1570"/>
                </a:cubicBezTo>
                <a:cubicBezTo>
                  <a:pt x="1136" y="1511"/>
                  <a:pt x="1131" y="1206"/>
                  <a:pt x="1141" y="1148"/>
                </a:cubicBezTo>
                <a:cubicBezTo>
                  <a:pt x="1151" y="1090"/>
                  <a:pt x="1175" y="1218"/>
                  <a:pt x="1185" y="1222"/>
                </a:cubicBezTo>
                <a:cubicBezTo>
                  <a:pt x="1195" y="1226"/>
                  <a:pt x="1196" y="1192"/>
                  <a:pt x="1200" y="1170"/>
                </a:cubicBezTo>
                <a:cubicBezTo>
                  <a:pt x="1163" y="1363"/>
                  <a:pt x="1186" y="1154"/>
                  <a:pt x="1208" y="1089"/>
                </a:cubicBezTo>
                <a:cubicBezTo>
                  <a:pt x="1210" y="1082"/>
                  <a:pt x="1209" y="1761"/>
                  <a:pt x="1215" y="1756"/>
                </a:cubicBezTo>
                <a:cubicBezTo>
                  <a:pt x="1223" y="1749"/>
                  <a:pt x="1264" y="1284"/>
                  <a:pt x="1274" y="1281"/>
                </a:cubicBezTo>
                <a:cubicBezTo>
                  <a:pt x="1313" y="1290"/>
                  <a:pt x="1371" y="1737"/>
                  <a:pt x="1393" y="1770"/>
                </a:cubicBezTo>
                <a:cubicBezTo>
                  <a:pt x="1409" y="1820"/>
                  <a:pt x="1422" y="1568"/>
                  <a:pt x="1430" y="1622"/>
                </a:cubicBezTo>
                <a:cubicBezTo>
                  <a:pt x="1432" y="1634"/>
                  <a:pt x="1487" y="1396"/>
                  <a:pt x="1489" y="1400"/>
                </a:cubicBezTo>
                <a:cubicBezTo>
                  <a:pt x="1518" y="1464"/>
                  <a:pt x="1474" y="1050"/>
                  <a:pt x="1534" y="1089"/>
                </a:cubicBezTo>
                <a:cubicBezTo>
                  <a:pt x="1546" y="1143"/>
                  <a:pt x="1571" y="1702"/>
                  <a:pt x="1615" y="1741"/>
                </a:cubicBezTo>
                <a:cubicBezTo>
                  <a:pt x="1629" y="1753"/>
                  <a:pt x="1630" y="1264"/>
                  <a:pt x="1645" y="1274"/>
                </a:cubicBezTo>
                <a:cubicBezTo>
                  <a:pt x="1652" y="1279"/>
                  <a:pt x="1682" y="1748"/>
                  <a:pt x="1682" y="1748"/>
                </a:cubicBezTo>
                <a:cubicBezTo>
                  <a:pt x="1697" y="1770"/>
                  <a:pt x="1696" y="1334"/>
                  <a:pt x="1711" y="1356"/>
                </a:cubicBezTo>
                <a:cubicBezTo>
                  <a:pt x="1716" y="1363"/>
                  <a:pt x="1741" y="1467"/>
                  <a:pt x="1741" y="1467"/>
                </a:cubicBezTo>
                <a:cubicBezTo>
                  <a:pt x="1781" y="1463"/>
                  <a:pt x="1810" y="1382"/>
                  <a:pt x="1845" y="1363"/>
                </a:cubicBezTo>
                <a:cubicBezTo>
                  <a:pt x="1889" y="1338"/>
                  <a:pt x="1880" y="1517"/>
                  <a:pt x="1896" y="1474"/>
                </a:cubicBezTo>
                <a:cubicBezTo>
                  <a:pt x="1915" y="1309"/>
                  <a:pt x="1901" y="1182"/>
                  <a:pt x="1933" y="1015"/>
                </a:cubicBezTo>
                <a:cubicBezTo>
                  <a:pt x="1966" y="1048"/>
                  <a:pt x="1969" y="0"/>
                  <a:pt x="1985" y="44"/>
                </a:cubicBezTo>
                <a:cubicBezTo>
                  <a:pt x="2006" y="102"/>
                  <a:pt x="2011" y="971"/>
                  <a:pt x="2030" y="1030"/>
                </a:cubicBezTo>
                <a:cubicBezTo>
                  <a:pt x="2051" y="1096"/>
                  <a:pt x="2073" y="1162"/>
                  <a:pt x="2089" y="1230"/>
                </a:cubicBezTo>
                <a:cubicBezTo>
                  <a:pt x="2099" y="1272"/>
                  <a:pt x="2117" y="1305"/>
                  <a:pt x="2141" y="1341"/>
                </a:cubicBezTo>
                <a:cubicBezTo>
                  <a:pt x="2151" y="1356"/>
                  <a:pt x="2168" y="1364"/>
                  <a:pt x="2185" y="1370"/>
                </a:cubicBezTo>
                <a:cubicBezTo>
                  <a:pt x="2200" y="1375"/>
                  <a:pt x="2230" y="1385"/>
                  <a:pt x="2230" y="1385"/>
                </a:cubicBezTo>
                <a:cubicBezTo>
                  <a:pt x="2293" y="1428"/>
                  <a:pt x="2405" y="1403"/>
                  <a:pt x="2467" y="1400"/>
                </a:cubicBezTo>
                <a:cubicBezTo>
                  <a:pt x="2505" y="1388"/>
                  <a:pt x="2513" y="1351"/>
                  <a:pt x="2533" y="1319"/>
                </a:cubicBezTo>
                <a:cubicBezTo>
                  <a:pt x="2541" y="1289"/>
                  <a:pt x="2545" y="1259"/>
                  <a:pt x="2556" y="1230"/>
                </a:cubicBezTo>
                <a:cubicBezTo>
                  <a:pt x="2566" y="1166"/>
                  <a:pt x="2557" y="1100"/>
                  <a:pt x="2570" y="1037"/>
                </a:cubicBezTo>
                <a:cubicBezTo>
                  <a:pt x="2577" y="1003"/>
                  <a:pt x="2642" y="978"/>
                  <a:pt x="2667" y="963"/>
                </a:cubicBezTo>
                <a:cubicBezTo>
                  <a:pt x="2682" y="954"/>
                  <a:pt x="2711" y="933"/>
                  <a:pt x="2711" y="933"/>
                </a:cubicBezTo>
                <a:cubicBezTo>
                  <a:pt x="2728" y="904"/>
                  <a:pt x="2738" y="883"/>
                  <a:pt x="2748" y="852"/>
                </a:cubicBezTo>
                <a:cubicBezTo>
                  <a:pt x="2751" y="832"/>
                  <a:pt x="2778" y="818"/>
                  <a:pt x="2785" y="800"/>
                </a:cubicBezTo>
                <a:cubicBezTo>
                  <a:pt x="2798" y="767"/>
                  <a:pt x="2894" y="763"/>
                  <a:pt x="2896" y="763"/>
                </a:cubicBezTo>
                <a:cubicBezTo>
                  <a:pt x="2939" y="750"/>
                  <a:pt x="2976" y="718"/>
                  <a:pt x="3015" y="696"/>
                </a:cubicBezTo>
                <a:cubicBezTo>
                  <a:pt x="3026" y="680"/>
                  <a:pt x="3047" y="671"/>
                  <a:pt x="3052" y="652"/>
                </a:cubicBezTo>
                <a:cubicBezTo>
                  <a:pt x="3060" y="621"/>
                  <a:pt x="3055" y="588"/>
                  <a:pt x="3059" y="556"/>
                </a:cubicBezTo>
                <a:cubicBezTo>
                  <a:pt x="3064" y="513"/>
                  <a:pt x="3069" y="211"/>
                  <a:pt x="3082" y="170"/>
                </a:cubicBezTo>
                <a:cubicBezTo>
                  <a:pt x="3125" y="184"/>
                  <a:pt x="3133" y="478"/>
                  <a:pt x="3141" y="518"/>
                </a:cubicBezTo>
                <a:cubicBezTo>
                  <a:pt x="3149" y="560"/>
                  <a:pt x="3175" y="682"/>
                  <a:pt x="3193" y="711"/>
                </a:cubicBezTo>
                <a:cubicBezTo>
                  <a:pt x="3205" y="730"/>
                  <a:pt x="3224" y="744"/>
                  <a:pt x="3237" y="763"/>
                </a:cubicBezTo>
                <a:cubicBezTo>
                  <a:pt x="3252" y="827"/>
                  <a:pt x="3298" y="841"/>
                  <a:pt x="3319" y="896"/>
                </a:cubicBezTo>
                <a:cubicBezTo>
                  <a:pt x="3339" y="949"/>
                  <a:pt x="3383" y="989"/>
                  <a:pt x="3415" y="1037"/>
                </a:cubicBezTo>
                <a:cubicBezTo>
                  <a:pt x="3421" y="1046"/>
                  <a:pt x="3435" y="1045"/>
                  <a:pt x="3444" y="1052"/>
                </a:cubicBezTo>
                <a:cubicBezTo>
                  <a:pt x="3455" y="1060"/>
                  <a:pt x="3464" y="1071"/>
                  <a:pt x="3474" y="1081"/>
                </a:cubicBezTo>
                <a:cubicBezTo>
                  <a:pt x="3504" y="1079"/>
                  <a:pt x="3534" y="1081"/>
                  <a:pt x="3563" y="1074"/>
                </a:cubicBezTo>
                <a:cubicBezTo>
                  <a:pt x="3589" y="1068"/>
                  <a:pt x="3612" y="1025"/>
                  <a:pt x="3630" y="1007"/>
                </a:cubicBezTo>
                <a:cubicBezTo>
                  <a:pt x="3645" y="976"/>
                  <a:pt x="3655" y="944"/>
                  <a:pt x="3667" y="911"/>
                </a:cubicBezTo>
                <a:cubicBezTo>
                  <a:pt x="3709" y="977"/>
                  <a:pt x="3711" y="1094"/>
                  <a:pt x="3785" y="1126"/>
                </a:cubicBezTo>
                <a:cubicBezTo>
                  <a:pt x="3811" y="1137"/>
                  <a:pt x="3846" y="1142"/>
                  <a:pt x="3874" y="1148"/>
                </a:cubicBezTo>
                <a:cubicBezTo>
                  <a:pt x="3931" y="1141"/>
                  <a:pt x="3943" y="1133"/>
                  <a:pt x="4000" y="1156"/>
                </a:cubicBezTo>
                <a:cubicBezTo>
                  <a:pt x="4048" y="1175"/>
                  <a:pt x="4088" y="1227"/>
                  <a:pt x="4126" y="1259"/>
                </a:cubicBezTo>
                <a:cubicBezTo>
                  <a:pt x="4170" y="1296"/>
                  <a:pt x="4206" y="1309"/>
                  <a:pt x="4259" y="1326"/>
                </a:cubicBezTo>
                <a:cubicBezTo>
                  <a:pt x="4281" y="1324"/>
                  <a:pt x="4304" y="1324"/>
                  <a:pt x="4326" y="1319"/>
                </a:cubicBezTo>
                <a:cubicBezTo>
                  <a:pt x="4365" y="1309"/>
                  <a:pt x="4388" y="1227"/>
                  <a:pt x="4430" y="1200"/>
                </a:cubicBezTo>
                <a:cubicBezTo>
                  <a:pt x="4485" y="1217"/>
                  <a:pt x="4526" y="1274"/>
                  <a:pt x="4570" y="1311"/>
                </a:cubicBezTo>
                <a:cubicBezTo>
                  <a:pt x="4590" y="1366"/>
                  <a:pt x="4614" y="1345"/>
                  <a:pt x="4659" y="1333"/>
                </a:cubicBezTo>
                <a:cubicBezTo>
                  <a:pt x="4668" y="1322"/>
                  <a:pt x="4689" y="1295"/>
                  <a:pt x="4696" y="1281"/>
                </a:cubicBezTo>
                <a:cubicBezTo>
                  <a:pt x="4708" y="1258"/>
                  <a:pt x="4711" y="1237"/>
                  <a:pt x="4726" y="1215"/>
                </a:cubicBezTo>
                <a:cubicBezTo>
                  <a:pt x="4749" y="1144"/>
                  <a:pt x="4743" y="1056"/>
                  <a:pt x="4748" y="985"/>
                </a:cubicBezTo>
                <a:cubicBezTo>
                  <a:pt x="4752" y="924"/>
                  <a:pt x="4750" y="886"/>
                  <a:pt x="4800" y="852"/>
                </a:cubicBezTo>
                <a:cubicBezTo>
                  <a:pt x="4846" y="788"/>
                  <a:pt x="4816" y="797"/>
                  <a:pt x="4881" y="807"/>
                </a:cubicBezTo>
                <a:cubicBezTo>
                  <a:pt x="4891" y="792"/>
                  <a:pt x="4901" y="778"/>
                  <a:pt x="4911" y="763"/>
                </a:cubicBezTo>
                <a:cubicBezTo>
                  <a:pt x="4920" y="750"/>
                  <a:pt x="4926" y="718"/>
                  <a:pt x="4926" y="718"/>
                </a:cubicBezTo>
                <a:cubicBezTo>
                  <a:pt x="4928" y="681"/>
                  <a:pt x="4929" y="644"/>
                  <a:pt x="4933" y="607"/>
                </a:cubicBezTo>
                <a:cubicBezTo>
                  <a:pt x="4937" y="571"/>
                  <a:pt x="4959" y="531"/>
                  <a:pt x="4970" y="496"/>
                </a:cubicBezTo>
                <a:cubicBezTo>
                  <a:pt x="4981" y="462"/>
                  <a:pt x="4976" y="471"/>
                  <a:pt x="4985" y="437"/>
                </a:cubicBezTo>
                <a:cubicBezTo>
                  <a:pt x="4989" y="422"/>
                  <a:pt x="5000" y="393"/>
                  <a:pt x="5000" y="393"/>
                </a:cubicBezTo>
              </a:path>
            </a:pathLst>
          </a:custGeom>
          <a:noFill/>
          <a:ln w="1260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4120" y="3505320"/>
            <a:ext cx="228600" cy="228600"/>
          </a:xfrm>
          <a:prstGeom prst="flowChartSummingJunction">
            <a:avLst/>
          </a:prstGeom>
          <a:solidFill>
            <a:srgbClr val="868686">
              <a:alpha val="50000"/>
            </a:srgbClr>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55"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Resolution</a:t>
            </a:r>
            <a:endParaRPr b="0" lang="en-US" sz="4400" spc="-1" strike="noStrike">
              <a:solidFill>
                <a:srgbClr val="000000"/>
              </a:solidFill>
              <a:latin typeface="Times New Roman"/>
            </a:endParaRPr>
          </a:p>
        </p:txBody>
      </p:sp>
      <p:sp>
        <p:nvSpPr>
          <p:cNvPr id="156" name="PlaceHolder 1"/>
          <p:cNvSpPr>
            <a:spLocks noGrp="1"/>
          </p:cNvSpPr>
          <p:nvPr>
            <p:ph/>
          </p:nvPr>
        </p:nvSpPr>
        <p:spPr>
          <a:xfrm>
            <a:off x="533520" y="1066320"/>
            <a:ext cx="8153280" cy="510876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signal “within the peak” but why worry about it because it is well below the limit !</a:t>
            </a:r>
            <a:endParaRPr b="0" lang="en-US" sz="2800" spc="-1" strike="noStrike">
              <a:solidFill>
                <a:srgbClr val="000000"/>
              </a:solidFill>
              <a:latin typeface="Arial"/>
            </a:endParaRPr>
          </a:p>
        </p:txBody>
      </p:sp>
      <p:sp>
        <p:nvSpPr>
          <p:cNvPr id="157" name=""/>
          <p:cNvSpPr/>
          <p:nvPr/>
        </p:nvSpPr>
        <p:spPr>
          <a:xfrm>
            <a:off x="614520" y="2514600"/>
            <a:ext cx="7924680" cy="396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76280" y="3398760"/>
            <a:ext cx="336888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14520" y="4114800"/>
            <a:ext cx="5209920" cy="4680"/>
          </a:xfrm>
          <a:custGeom>
            <a:avLst/>
            <a:gdLst/>
            <a:ahLst/>
            <a:rect l="l" t="t" r="r" b="b"/>
            <a:pathLst>
              <a:path w="3282" h="3">
                <a:moveTo>
                  <a:pt x="0" y="3"/>
                </a:moveTo>
                <a:lnTo>
                  <a:pt x="3282" y="0"/>
                </a:lnTo>
              </a:path>
            </a:pathLst>
          </a:custGeom>
          <a:solidFill>
            <a:srgbClr val="ffffff"/>
          </a:solidFill>
          <a:ln w="12600">
            <a:solidFill>
              <a:srgbClr val="b2b2b2"/>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0" name=""/>
          <p:cNvSpPr/>
          <p:nvPr/>
        </p:nvSpPr>
        <p:spPr>
          <a:xfrm flipV="1">
            <a:off x="5796000" y="3352320"/>
            <a:ext cx="0" cy="7621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96000" y="3352680"/>
            <a:ext cx="27432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5796000" y="3809520"/>
            <a:ext cx="0" cy="7621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14160" y="4572000"/>
            <a:ext cx="5181480" cy="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43120" y="2819520"/>
            <a:ext cx="2438280" cy="990360"/>
          </a:xfrm>
          <a:prstGeom prst="ellipse">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2138400" y="3505320"/>
            <a:ext cx="1066680" cy="12952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919080" y="3505320"/>
            <a:ext cx="914400" cy="12952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09680" y="2847960"/>
            <a:ext cx="1285920" cy="895320"/>
          </a:xfrm>
          <a:custGeom>
            <a:avLst/>
            <a:gdLst/>
            <a:ahLst/>
            <a:rect l="l" t="t" r="r" b="b"/>
            <a:pathLst>
              <a:path w="810" h="564">
                <a:moveTo>
                  <a:pt x="0" y="522"/>
                </a:moveTo>
                <a:cubicBezTo>
                  <a:pt x="56" y="503"/>
                  <a:pt x="19" y="516"/>
                  <a:pt x="54" y="504"/>
                </a:cubicBezTo>
                <a:cubicBezTo>
                  <a:pt x="66" y="500"/>
                  <a:pt x="90" y="492"/>
                  <a:pt x="90" y="492"/>
                </a:cubicBezTo>
                <a:cubicBezTo>
                  <a:pt x="107" y="475"/>
                  <a:pt x="118" y="458"/>
                  <a:pt x="138" y="444"/>
                </a:cubicBezTo>
                <a:cubicBezTo>
                  <a:pt x="154" y="420"/>
                  <a:pt x="177" y="399"/>
                  <a:pt x="198" y="378"/>
                </a:cubicBezTo>
                <a:cubicBezTo>
                  <a:pt x="218" y="318"/>
                  <a:pt x="185" y="409"/>
                  <a:pt x="222" y="342"/>
                </a:cubicBezTo>
                <a:cubicBezTo>
                  <a:pt x="238" y="313"/>
                  <a:pt x="239" y="276"/>
                  <a:pt x="252" y="246"/>
                </a:cubicBezTo>
                <a:cubicBezTo>
                  <a:pt x="267" y="210"/>
                  <a:pt x="280" y="183"/>
                  <a:pt x="288" y="144"/>
                </a:cubicBezTo>
                <a:cubicBezTo>
                  <a:pt x="298" y="94"/>
                  <a:pt x="302" y="30"/>
                  <a:pt x="348" y="0"/>
                </a:cubicBezTo>
                <a:cubicBezTo>
                  <a:pt x="369" y="3"/>
                  <a:pt x="392" y="0"/>
                  <a:pt x="408" y="18"/>
                </a:cubicBezTo>
                <a:cubicBezTo>
                  <a:pt x="451" y="67"/>
                  <a:pt x="471" y="170"/>
                  <a:pt x="492" y="234"/>
                </a:cubicBezTo>
                <a:cubicBezTo>
                  <a:pt x="509" y="284"/>
                  <a:pt x="528" y="329"/>
                  <a:pt x="582" y="342"/>
                </a:cubicBezTo>
                <a:cubicBezTo>
                  <a:pt x="590" y="340"/>
                  <a:pt x="620" y="336"/>
                  <a:pt x="630" y="330"/>
                </a:cubicBezTo>
                <a:cubicBezTo>
                  <a:pt x="692" y="296"/>
                  <a:pt x="643" y="314"/>
                  <a:pt x="684" y="300"/>
                </a:cubicBezTo>
                <a:cubicBezTo>
                  <a:pt x="724" y="340"/>
                  <a:pt x="715" y="320"/>
                  <a:pt x="726" y="354"/>
                </a:cubicBezTo>
                <a:cubicBezTo>
                  <a:pt x="733" y="414"/>
                  <a:pt x="741" y="460"/>
                  <a:pt x="774" y="510"/>
                </a:cubicBezTo>
                <a:cubicBezTo>
                  <a:pt x="782" y="522"/>
                  <a:pt x="790" y="534"/>
                  <a:pt x="798" y="546"/>
                </a:cubicBezTo>
                <a:cubicBezTo>
                  <a:pt x="802" y="552"/>
                  <a:pt x="810" y="564"/>
                  <a:pt x="810" y="564"/>
                </a:cubicBez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390680" y="2855880"/>
            <a:ext cx="1152360" cy="934920"/>
          </a:xfrm>
          <a:custGeom>
            <a:avLst/>
            <a:gdLst/>
            <a:ahLst/>
            <a:rect l="l" t="t" r="r" b="b"/>
            <a:pathLst>
              <a:path w="726" h="589">
                <a:moveTo>
                  <a:pt x="0" y="529"/>
                </a:moveTo>
                <a:cubicBezTo>
                  <a:pt x="16" y="507"/>
                  <a:pt x="99" y="452"/>
                  <a:pt x="111" y="427"/>
                </a:cubicBezTo>
                <a:cubicBezTo>
                  <a:pt x="133" y="460"/>
                  <a:pt x="129" y="433"/>
                  <a:pt x="153" y="409"/>
                </a:cubicBezTo>
                <a:cubicBezTo>
                  <a:pt x="162" y="374"/>
                  <a:pt x="181" y="337"/>
                  <a:pt x="201" y="307"/>
                </a:cubicBezTo>
                <a:cubicBezTo>
                  <a:pt x="206" y="287"/>
                  <a:pt x="206" y="237"/>
                  <a:pt x="219" y="289"/>
                </a:cubicBezTo>
                <a:cubicBezTo>
                  <a:pt x="226" y="253"/>
                  <a:pt x="233" y="222"/>
                  <a:pt x="243" y="187"/>
                </a:cubicBezTo>
                <a:cubicBezTo>
                  <a:pt x="247" y="171"/>
                  <a:pt x="255" y="139"/>
                  <a:pt x="255" y="139"/>
                </a:cubicBezTo>
                <a:cubicBezTo>
                  <a:pt x="270" y="169"/>
                  <a:pt x="279" y="235"/>
                  <a:pt x="279" y="235"/>
                </a:cubicBezTo>
                <a:cubicBezTo>
                  <a:pt x="282" y="155"/>
                  <a:pt x="278" y="90"/>
                  <a:pt x="293" y="0"/>
                </a:cubicBezTo>
                <a:cubicBezTo>
                  <a:pt x="302" y="36"/>
                  <a:pt x="308" y="292"/>
                  <a:pt x="323" y="396"/>
                </a:cubicBezTo>
                <a:cubicBezTo>
                  <a:pt x="325" y="360"/>
                  <a:pt x="328" y="43"/>
                  <a:pt x="333" y="7"/>
                </a:cubicBezTo>
                <a:cubicBezTo>
                  <a:pt x="334" y="1"/>
                  <a:pt x="338" y="19"/>
                  <a:pt x="339" y="25"/>
                </a:cubicBezTo>
                <a:cubicBezTo>
                  <a:pt x="342" y="47"/>
                  <a:pt x="343" y="69"/>
                  <a:pt x="345" y="91"/>
                </a:cubicBezTo>
                <a:cubicBezTo>
                  <a:pt x="349" y="128"/>
                  <a:pt x="362" y="247"/>
                  <a:pt x="371" y="283"/>
                </a:cubicBezTo>
                <a:cubicBezTo>
                  <a:pt x="374" y="297"/>
                  <a:pt x="376" y="214"/>
                  <a:pt x="378" y="181"/>
                </a:cubicBezTo>
                <a:cubicBezTo>
                  <a:pt x="380" y="148"/>
                  <a:pt x="378" y="95"/>
                  <a:pt x="381" y="85"/>
                </a:cubicBezTo>
                <a:cubicBezTo>
                  <a:pt x="385" y="73"/>
                  <a:pt x="393" y="121"/>
                  <a:pt x="393" y="121"/>
                </a:cubicBezTo>
                <a:cubicBezTo>
                  <a:pt x="401" y="282"/>
                  <a:pt x="414" y="434"/>
                  <a:pt x="453" y="589"/>
                </a:cubicBezTo>
                <a:cubicBezTo>
                  <a:pt x="460" y="567"/>
                  <a:pt x="471" y="523"/>
                  <a:pt x="471" y="523"/>
                </a:cubicBezTo>
                <a:cubicBezTo>
                  <a:pt x="479" y="275"/>
                  <a:pt x="473" y="293"/>
                  <a:pt x="489" y="391"/>
                </a:cubicBezTo>
                <a:cubicBezTo>
                  <a:pt x="493" y="445"/>
                  <a:pt x="494" y="490"/>
                  <a:pt x="507" y="541"/>
                </a:cubicBezTo>
                <a:cubicBezTo>
                  <a:pt x="524" y="475"/>
                  <a:pt x="493" y="294"/>
                  <a:pt x="531" y="409"/>
                </a:cubicBezTo>
                <a:cubicBezTo>
                  <a:pt x="544" y="564"/>
                  <a:pt x="557" y="433"/>
                  <a:pt x="561" y="379"/>
                </a:cubicBezTo>
                <a:cubicBezTo>
                  <a:pt x="574" y="419"/>
                  <a:pt x="574" y="448"/>
                  <a:pt x="579" y="493"/>
                </a:cubicBezTo>
                <a:cubicBezTo>
                  <a:pt x="580" y="505"/>
                  <a:pt x="582" y="517"/>
                  <a:pt x="585" y="529"/>
                </a:cubicBezTo>
                <a:cubicBezTo>
                  <a:pt x="588" y="541"/>
                  <a:pt x="611" y="562"/>
                  <a:pt x="611" y="562"/>
                </a:cubicBezTo>
                <a:cubicBezTo>
                  <a:pt x="617" y="558"/>
                  <a:pt x="611" y="559"/>
                  <a:pt x="615" y="553"/>
                </a:cubicBezTo>
                <a:cubicBezTo>
                  <a:pt x="622" y="542"/>
                  <a:pt x="627" y="517"/>
                  <a:pt x="627" y="517"/>
                </a:cubicBezTo>
                <a:cubicBezTo>
                  <a:pt x="629" y="449"/>
                  <a:pt x="629" y="381"/>
                  <a:pt x="633" y="313"/>
                </a:cubicBezTo>
                <a:cubicBezTo>
                  <a:pt x="633" y="307"/>
                  <a:pt x="638" y="325"/>
                  <a:pt x="639" y="331"/>
                </a:cubicBezTo>
                <a:cubicBezTo>
                  <a:pt x="642" y="345"/>
                  <a:pt x="643" y="359"/>
                  <a:pt x="645" y="373"/>
                </a:cubicBezTo>
                <a:cubicBezTo>
                  <a:pt x="650" y="415"/>
                  <a:pt x="651" y="457"/>
                  <a:pt x="657" y="499"/>
                </a:cubicBezTo>
                <a:cubicBezTo>
                  <a:pt x="660" y="519"/>
                  <a:pt x="665" y="565"/>
                  <a:pt x="665" y="565"/>
                </a:cubicBezTo>
                <a:cubicBezTo>
                  <a:pt x="675" y="525"/>
                  <a:pt x="673" y="478"/>
                  <a:pt x="683" y="409"/>
                </a:cubicBezTo>
                <a:cubicBezTo>
                  <a:pt x="686" y="371"/>
                  <a:pt x="690" y="503"/>
                  <a:pt x="693" y="529"/>
                </a:cubicBezTo>
                <a:cubicBezTo>
                  <a:pt x="694" y="543"/>
                  <a:pt x="697" y="557"/>
                  <a:pt x="699" y="571"/>
                </a:cubicBezTo>
                <a:cubicBezTo>
                  <a:pt x="724" y="563"/>
                  <a:pt x="721" y="535"/>
                  <a:pt x="726" y="525"/>
                </a:cubicBezTo>
              </a:path>
            </a:pathLst>
          </a:custGeom>
          <a:solidFill>
            <a:srgbClr val="ffffff"/>
          </a:solidFill>
          <a:ln w="1260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96000" y="3809880"/>
            <a:ext cx="2743200" cy="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62280" y="3200400"/>
            <a:ext cx="228600" cy="228600"/>
          </a:xfrm>
          <a:prstGeom prst="flowChartSummingJunction">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5120" y="3429000"/>
            <a:ext cx="228600" cy="228600"/>
          </a:xfrm>
          <a:prstGeom prst="flowChartSummingJunction">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262320"/>
            <a:ext cx="7937640" cy="2889360"/>
          </a:xfrm>
          <a:custGeom>
            <a:avLst/>
            <a:gdLst/>
            <a:ahLst/>
            <a:rect l="l" t="t" r="r" b="b"/>
            <a:pathLst>
              <a:path w="5000" h="1820">
                <a:moveTo>
                  <a:pt x="0" y="1296"/>
                </a:moveTo>
                <a:cubicBezTo>
                  <a:pt x="15" y="1294"/>
                  <a:pt x="31" y="1296"/>
                  <a:pt x="45" y="1289"/>
                </a:cubicBezTo>
                <a:cubicBezTo>
                  <a:pt x="53" y="1285"/>
                  <a:pt x="53" y="1273"/>
                  <a:pt x="60" y="1267"/>
                </a:cubicBezTo>
                <a:cubicBezTo>
                  <a:pt x="63" y="1265"/>
                  <a:pt x="101" y="1253"/>
                  <a:pt x="104" y="1252"/>
                </a:cubicBezTo>
                <a:cubicBezTo>
                  <a:pt x="185" y="1197"/>
                  <a:pt x="67" y="1267"/>
                  <a:pt x="148" y="1252"/>
                </a:cubicBezTo>
                <a:cubicBezTo>
                  <a:pt x="157" y="1250"/>
                  <a:pt x="155" y="1234"/>
                  <a:pt x="163" y="1230"/>
                </a:cubicBezTo>
                <a:cubicBezTo>
                  <a:pt x="179" y="1223"/>
                  <a:pt x="198" y="1225"/>
                  <a:pt x="215" y="1222"/>
                </a:cubicBezTo>
                <a:cubicBezTo>
                  <a:pt x="249" y="1211"/>
                  <a:pt x="281" y="1212"/>
                  <a:pt x="311" y="1193"/>
                </a:cubicBezTo>
                <a:cubicBezTo>
                  <a:pt x="326" y="1171"/>
                  <a:pt x="334" y="1141"/>
                  <a:pt x="356" y="1126"/>
                </a:cubicBezTo>
                <a:cubicBezTo>
                  <a:pt x="381" y="1109"/>
                  <a:pt x="398" y="1092"/>
                  <a:pt x="415" y="1067"/>
                </a:cubicBezTo>
                <a:cubicBezTo>
                  <a:pt x="442" y="979"/>
                  <a:pt x="412" y="1292"/>
                  <a:pt x="482" y="1222"/>
                </a:cubicBezTo>
                <a:cubicBezTo>
                  <a:pt x="487" y="1208"/>
                  <a:pt x="498" y="1364"/>
                  <a:pt x="504" y="1356"/>
                </a:cubicBezTo>
                <a:cubicBezTo>
                  <a:pt x="508" y="1350"/>
                  <a:pt x="541" y="1513"/>
                  <a:pt x="548" y="1511"/>
                </a:cubicBezTo>
                <a:cubicBezTo>
                  <a:pt x="558" y="1513"/>
                  <a:pt x="584" y="1387"/>
                  <a:pt x="593" y="1393"/>
                </a:cubicBezTo>
                <a:cubicBezTo>
                  <a:pt x="614" y="1407"/>
                  <a:pt x="604" y="1356"/>
                  <a:pt x="608" y="1370"/>
                </a:cubicBezTo>
                <a:cubicBezTo>
                  <a:pt x="616" y="1397"/>
                  <a:pt x="613" y="1208"/>
                  <a:pt x="637" y="1215"/>
                </a:cubicBezTo>
                <a:cubicBezTo>
                  <a:pt x="665" y="1268"/>
                  <a:pt x="652" y="1194"/>
                  <a:pt x="719" y="1207"/>
                </a:cubicBezTo>
                <a:cubicBezTo>
                  <a:pt x="753" y="1230"/>
                  <a:pt x="759" y="1209"/>
                  <a:pt x="800" y="1200"/>
                </a:cubicBezTo>
                <a:cubicBezTo>
                  <a:pt x="829" y="1172"/>
                  <a:pt x="846" y="942"/>
                  <a:pt x="867" y="911"/>
                </a:cubicBezTo>
                <a:cubicBezTo>
                  <a:pt x="881" y="868"/>
                  <a:pt x="895" y="1040"/>
                  <a:pt x="934" y="1015"/>
                </a:cubicBezTo>
                <a:cubicBezTo>
                  <a:pt x="969" y="1039"/>
                  <a:pt x="1071" y="1318"/>
                  <a:pt x="1111" y="1333"/>
                </a:cubicBezTo>
                <a:cubicBezTo>
                  <a:pt x="1136" y="1324"/>
                  <a:pt x="1104" y="1585"/>
                  <a:pt x="1126" y="1570"/>
                </a:cubicBezTo>
                <a:cubicBezTo>
                  <a:pt x="1136" y="1511"/>
                  <a:pt x="1131" y="1206"/>
                  <a:pt x="1141" y="1148"/>
                </a:cubicBezTo>
                <a:cubicBezTo>
                  <a:pt x="1151" y="1090"/>
                  <a:pt x="1175" y="1218"/>
                  <a:pt x="1185" y="1222"/>
                </a:cubicBezTo>
                <a:cubicBezTo>
                  <a:pt x="1195" y="1226"/>
                  <a:pt x="1196" y="1192"/>
                  <a:pt x="1200" y="1170"/>
                </a:cubicBezTo>
                <a:cubicBezTo>
                  <a:pt x="1163" y="1363"/>
                  <a:pt x="1186" y="1154"/>
                  <a:pt x="1208" y="1089"/>
                </a:cubicBezTo>
                <a:cubicBezTo>
                  <a:pt x="1210" y="1082"/>
                  <a:pt x="1209" y="1761"/>
                  <a:pt x="1215" y="1756"/>
                </a:cubicBezTo>
                <a:cubicBezTo>
                  <a:pt x="1223" y="1749"/>
                  <a:pt x="1264" y="1284"/>
                  <a:pt x="1274" y="1281"/>
                </a:cubicBezTo>
                <a:cubicBezTo>
                  <a:pt x="1313" y="1290"/>
                  <a:pt x="1371" y="1737"/>
                  <a:pt x="1393" y="1770"/>
                </a:cubicBezTo>
                <a:cubicBezTo>
                  <a:pt x="1409" y="1820"/>
                  <a:pt x="1422" y="1568"/>
                  <a:pt x="1430" y="1622"/>
                </a:cubicBezTo>
                <a:cubicBezTo>
                  <a:pt x="1432" y="1634"/>
                  <a:pt x="1487" y="1396"/>
                  <a:pt x="1489" y="1400"/>
                </a:cubicBezTo>
                <a:cubicBezTo>
                  <a:pt x="1518" y="1464"/>
                  <a:pt x="1474" y="1050"/>
                  <a:pt x="1534" y="1089"/>
                </a:cubicBezTo>
                <a:cubicBezTo>
                  <a:pt x="1546" y="1143"/>
                  <a:pt x="1571" y="1702"/>
                  <a:pt x="1615" y="1741"/>
                </a:cubicBezTo>
                <a:cubicBezTo>
                  <a:pt x="1629" y="1753"/>
                  <a:pt x="1630" y="1264"/>
                  <a:pt x="1645" y="1274"/>
                </a:cubicBezTo>
                <a:cubicBezTo>
                  <a:pt x="1652" y="1279"/>
                  <a:pt x="1682" y="1748"/>
                  <a:pt x="1682" y="1748"/>
                </a:cubicBezTo>
                <a:cubicBezTo>
                  <a:pt x="1697" y="1770"/>
                  <a:pt x="1696" y="1334"/>
                  <a:pt x="1711" y="1356"/>
                </a:cubicBezTo>
                <a:cubicBezTo>
                  <a:pt x="1716" y="1363"/>
                  <a:pt x="1741" y="1467"/>
                  <a:pt x="1741" y="1467"/>
                </a:cubicBezTo>
                <a:cubicBezTo>
                  <a:pt x="1781" y="1463"/>
                  <a:pt x="1810" y="1382"/>
                  <a:pt x="1845" y="1363"/>
                </a:cubicBezTo>
                <a:cubicBezTo>
                  <a:pt x="1889" y="1338"/>
                  <a:pt x="1880" y="1517"/>
                  <a:pt x="1896" y="1474"/>
                </a:cubicBezTo>
                <a:cubicBezTo>
                  <a:pt x="1915" y="1309"/>
                  <a:pt x="1901" y="1182"/>
                  <a:pt x="1933" y="1015"/>
                </a:cubicBezTo>
                <a:cubicBezTo>
                  <a:pt x="1966" y="1048"/>
                  <a:pt x="1969" y="0"/>
                  <a:pt x="1985" y="44"/>
                </a:cubicBezTo>
                <a:cubicBezTo>
                  <a:pt x="2006" y="102"/>
                  <a:pt x="2011" y="971"/>
                  <a:pt x="2030" y="1030"/>
                </a:cubicBezTo>
                <a:cubicBezTo>
                  <a:pt x="2051" y="1096"/>
                  <a:pt x="2073" y="1162"/>
                  <a:pt x="2089" y="1230"/>
                </a:cubicBezTo>
                <a:cubicBezTo>
                  <a:pt x="2099" y="1272"/>
                  <a:pt x="2117" y="1305"/>
                  <a:pt x="2141" y="1341"/>
                </a:cubicBezTo>
                <a:cubicBezTo>
                  <a:pt x="2151" y="1356"/>
                  <a:pt x="2168" y="1364"/>
                  <a:pt x="2185" y="1370"/>
                </a:cubicBezTo>
                <a:cubicBezTo>
                  <a:pt x="2200" y="1375"/>
                  <a:pt x="2230" y="1385"/>
                  <a:pt x="2230" y="1385"/>
                </a:cubicBezTo>
                <a:cubicBezTo>
                  <a:pt x="2293" y="1428"/>
                  <a:pt x="2405" y="1403"/>
                  <a:pt x="2467" y="1400"/>
                </a:cubicBezTo>
                <a:cubicBezTo>
                  <a:pt x="2505" y="1388"/>
                  <a:pt x="2513" y="1351"/>
                  <a:pt x="2533" y="1319"/>
                </a:cubicBezTo>
                <a:cubicBezTo>
                  <a:pt x="2541" y="1289"/>
                  <a:pt x="2545" y="1259"/>
                  <a:pt x="2556" y="1230"/>
                </a:cubicBezTo>
                <a:cubicBezTo>
                  <a:pt x="2566" y="1166"/>
                  <a:pt x="2557" y="1100"/>
                  <a:pt x="2570" y="1037"/>
                </a:cubicBezTo>
                <a:cubicBezTo>
                  <a:pt x="2577" y="1003"/>
                  <a:pt x="2642" y="978"/>
                  <a:pt x="2667" y="963"/>
                </a:cubicBezTo>
                <a:cubicBezTo>
                  <a:pt x="2682" y="954"/>
                  <a:pt x="2711" y="933"/>
                  <a:pt x="2711" y="933"/>
                </a:cubicBezTo>
                <a:cubicBezTo>
                  <a:pt x="2728" y="904"/>
                  <a:pt x="2738" y="883"/>
                  <a:pt x="2748" y="852"/>
                </a:cubicBezTo>
                <a:cubicBezTo>
                  <a:pt x="2751" y="832"/>
                  <a:pt x="2778" y="818"/>
                  <a:pt x="2785" y="800"/>
                </a:cubicBezTo>
                <a:cubicBezTo>
                  <a:pt x="2798" y="767"/>
                  <a:pt x="2894" y="763"/>
                  <a:pt x="2896" y="763"/>
                </a:cubicBezTo>
                <a:cubicBezTo>
                  <a:pt x="2939" y="750"/>
                  <a:pt x="2976" y="718"/>
                  <a:pt x="3015" y="696"/>
                </a:cubicBezTo>
                <a:cubicBezTo>
                  <a:pt x="3026" y="680"/>
                  <a:pt x="3047" y="671"/>
                  <a:pt x="3052" y="652"/>
                </a:cubicBezTo>
                <a:cubicBezTo>
                  <a:pt x="3060" y="621"/>
                  <a:pt x="3055" y="588"/>
                  <a:pt x="3059" y="556"/>
                </a:cubicBezTo>
                <a:cubicBezTo>
                  <a:pt x="3064" y="513"/>
                  <a:pt x="3069" y="211"/>
                  <a:pt x="3082" y="170"/>
                </a:cubicBezTo>
                <a:cubicBezTo>
                  <a:pt x="3125" y="184"/>
                  <a:pt x="3133" y="478"/>
                  <a:pt x="3141" y="518"/>
                </a:cubicBezTo>
                <a:cubicBezTo>
                  <a:pt x="3149" y="560"/>
                  <a:pt x="3175" y="682"/>
                  <a:pt x="3193" y="711"/>
                </a:cubicBezTo>
                <a:cubicBezTo>
                  <a:pt x="3205" y="730"/>
                  <a:pt x="3224" y="744"/>
                  <a:pt x="3237" y="763"/>
                </a:cubicBezTo>
                <a:cubicBezTo>
                  <a:pt x="3252" y="827"/>
                  <a:pt x="3298" y="841"/>
                  <a:pt x="3319" y="896"/>
                </a:cubicBezTo>
                <a:cubicBezTo>
                  <a:pt x="3339" y="949"/>
                  <a:pt x="3383" y="989"/>
                  <a:pt x="3415" y="1037"/>
                </a:cubicBezTo>
                <a:cubicBezTo>
                  <a:pt x="3421" y="1046"/>
                  <a:pt x="3435" y="1045"/>
                  <a:pt x="3444" y="1052"/>
                </a:cubicBezTo>
                <a:cubicBezTo>
                  <a:pt x="3455" y="1060"/>
                  <a:pt x="3464" y="1071"/>
                  <a:pt x="3474" y="1081"/>
                </a:cubicBezTo>
                <a:cubicBezTo>
                  <a:pt x="3504" y="1079"/>
                  <a:pt x="3534" y="1081"/>
                  <a:pt x="3563" y="1074"/>
                </a:cubicBezTo>
                <a:cubicBezTo>
                  <a:pt x="3589" y="1068"/>
                  <a:pt x="3612" y="1025"/>
                  <a:pt x="3630" y="1007"/>
                </a:cubicBezTo>
                <a:cubicBezTo>
                  <a:pt x="3645" y="976"/>
                  <a:pt x="3655" y="944"/>
                  <a:pt x="3667" y="911"/>
                </a:cubicBezTo>
                <a:cubicBezTo>
                  <a:pt x="3709" y="977"/>
                  <a:pt x="3711" y="1094"/>
                  <a:pt x="3785" y="1126"/>
                </a:cubicBezTo>
                <a:cubicBezTo>
                  <a:pt x="3811" y="1137"/>
                  <a:pt x="3846" y="1142"/>
                  <a:pt x="3874" y="1148"/>
                </a:cubicBezTo>
                <a:cubicBezTo>
                  <a:pt x="3931" y="1141"/>
                  <a:pt x="3943" y="1133"/>
                  <a:pt x="4000" y="1156"/>
                </a:cubicBezTo>
                <a:cubicBezTo>
                  <a:pt x="4048" y="1175"/>
                  <a:pt x="4088" y="1227"/>
                  <a:pt x="4126" y="1259"/>
                </a:cubicBezTo>
                <a:cubicBezTo>
                  <a:pt x="4170" y="1296"/>
                  <a:pt x="4206" y="1309"/>
                  <a:pt x="4259" y="1326"/>
                </a:cubicBezTo>
                <a:cubicBezTo>
                  <a:pt x="4281" y="1324"/>
                  <a:pt x="4304" y="1324"/>
                  <a:pt x="4326" y="1319"/>
                </a:cubicBezTo>
                <a:cubicBezTo>
                  <a:pt x="4365" y="1309"/>
                  <a:pt x="4388" y="1227"/>
                  <a:pt x="4430" y="1200"/>
                </a:cubicBezTo>
                <a:cubicBezTo>
                  <a:pt x="4485" y="1217"/>
                  <a:pt x="4526" y="1274"/>
                  <a:pt x="4570" y="1311"/>
                </a:cubicBezTo>
                <a:cubicBezTo>
                  <a:pt x="4590" y="1366"/>
                  <a:pt x="4614" y="1345"/>
                  <a:pt x="4659" y="1333"/>
                </a:cubicBezTo>
                <a:cubicBezTo>
                  <a:pt x="4668" y="1322"/>
                  <a:pt x="4689" y="1295"/>
                  <a:pt x="4696" y="1281"/>
                </a:cubicBezTo>
                <a:cubicBezTo>
                  <a:pt x="4708" y="1258"/>
                  <a:pt x="4711" y="1237"/>
                  <a:pt x="4726" y="1215"/>
                </a:cubicBezTo>
                <a:cubicBezTo>
                  <a:pt x="4749" y="1144"/>
                  <a:pt x="4743" y="1056"/>
                  <a:pt x="4748" y="985"/>
                </a:cubicBezTo>
                <a:cubicBezTo>
                  <a:pt x="4752" y="924"/>
                  <a:pt x="4750" y="886"/>
                  <a:pt x="4800" y="852"/>
                </a:cubicBezTo>
                <a:cubicBezTo>
                  <a:pt x="4846" y="788"/>
                  <a:pt x="4816" y="797"/>
                  <a:pt x="4881" y="807"/>
                </a:cubicBezTo>
                <a:cubicBezTo>
                  <a:pt x="4891" y="792"/>
                  <a:pt x="4901" y="778"/>
                  <a:pt x="4911" y="763"/>
                </a:cubicBezTo>
                <a:cubicBezTo>
                  <a:pt x="4920" y="750"/>
                  <a:pt x="4926" y="718"/>
                  <a:pt x="4926" y="718"/>
                </a:cubicBezTo>
                <a:cubicBezTo>
                  <a:pt x="4928" y="681"/>
                  <a:pt x="4929" y="644"/>
                  <a:pt x="4933" y="607"/>
                </a:cubicBezTo>
                <a:cubicBezTo>
                  <a:pt x="4937" y="571"/>
                  <a:pt x="4959" y="531"/>
                  <a:pt x="4970" y="496"/>
                </a:cubicBezTo>
                <a:cubicBezTo>
                  <a:pt x="4981" y="462"/>
                  <a:pt x="4976" y="471"/>
                  <a:pt x="4985" y="437"/>
                </a:cubicBezTo>
                <a:cubicBezTo>
                  <a:pt x="4989" y="422"/>
                  <a:pt x="5000" y="393"/>
                  <a:pt x="5000" y="393"/>
                </a:cubicBezTo>
              </a:path>
            </a:pathLst>
          </a:custGeom>
          <a:solidFill>
            <a:srgbClr val="ffffff"/>
          </a:solidFill>
          <a:ln w="1260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3480" y="4495680"/>
            <a:ext cx="304920" cy="457200"/>
          </a:xfrm>
          <a:prstGeom prst="ellipse">
            <a:avLst/>
          </a:prstGeom>
          <a:solidFill>
            <a:srgbClr val="ffff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8686"/>
        </a:solidFill>
      </p:bgPr>
    </p:bg>
    <p:spTree>
      <p:nvGrpSpPr>
        <p:cNvPr id="1" name=""/>
        <p:cNvGrpSpPr/>
        <p:nvPr/>
      </p:nvGrpSpPr>
      <p:grpSpPr>
        <a:xfrm>
          <a:off x="0" y="0"/>
          <a:ext cx="0" cy="0"/>
          <a:chOff x="0" y="0"/>
          <a:chExt cx="0" cy="0"/>
        </a:xfrm>
      </p:grpSpPr>
      <p:sp>
        <p:nvSpPr>
          <p:cNvPr id="174" name=""/>
          <p:cNvSpPr/>
          <p:nvPr/>
        </p:nvSpPr>
        <p:spPr>
          <a:xfrm>
            <a:off x="380880" y="150840"/>
            <a:ext cx="853308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Resolution</a:t>
            </a:r>
            <a:endParaRPr b="0" lang="en-US" sz="4400" spc="-1" strike="noStrike">
              <a:solidFill>
                <a:srgbClr val="000000"/>
              </a:solidFill>
              <a:latin typeface="Times New Roman"/>
            </a:endParaRPr>
          </a:p>
        </p:txBody>
      </p:sp>
      <p:sp>
        <p:nvSpPr>
          <p:cNvPr id="175" name="PlaceHolder 1"/>
          <p:cNvSpPr>
            <a:spLocks noGrp="1"/>
          </p:cNvSpPr>
          <p:nvPr>
            <p:ph/>
          </p:nvPr>
        </p:nvSpPr>
        <p:spPr>
          <a:xfrm>
            <a:off x="533520" y="761760"/>
            <a:ext cx="8153280" cy="5413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how data capture using 4 sub sweeps [trace 1] and no sub sweep [trace 2]</a:t>
            </a:r>
            <a:endParaRPr b="0" lang="en-US" sz="2800" spc="-1" strike="noStrike">
              <a:solidFill>
                <a:srgbClr val="000000"/>
              </a:solidFill>
              <a:latin typeface="Arial"/>
            </a:endParaRPr>
          </a:p>
        </p:txBody>
      </p:sp>
      <p:pic>
        <p:nvPicPr>
          <p:cNvPr id="176" name="" descr=""/>
          <p:cNvPicPr/>
          <p:nvPr/>
        </p:nvPicPr>
        <p:blipFill>
          <a:blip r:embed="rId1"/>
          <a:stretch/>
        </p:blipFill>
        <p:spPr>
          <a:xfrm>
            <a:off x="380880" y="2362320"/>
            <a:ext cx="8458200" cy="427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14T03:39:12Z</dcterms:created>
  <dc:creator/>
  <dc:description/>
  <dc:language>en-US</dc:language>
  <cp:lastModifiedBy>Andy Griffin</cp:lastModifiedBy>
  <cp:lastPrinted>1998-11-30T18:21:44Z</cp:lastPrinted>
  <dcterms:modified xsi:type="dcterms:W3CDTF">1998-12-22T15:12:30Z</dcterms:modified>
  <cp:revision>1029</cp:revision>
  <dc:subject/>
  <dc:title>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emisoft.co.uk</vt:lpwstr>
  </property>
  <property fmtid="{D5CDD505-2E9C-101B-9397-08002B2CF9AE}" pid="9" name="LinkColor">
    <vt:r8>16711782</vt:r8>
  </property>
  <property fmtid="{D5CDD505-2E9C-101B-9397-08002B2CF9AE}" pid="10" name="MailAddress">
    <vt:lpwstr>agriffin@emisoft.co.uk</vt:lpwstr>
  </property>
  <property fmtid="{D5CDD505-2E9C-101B-9397-08002B2CF9AE}" pid="11" name="NavBtnPos">
    <vt:r8>3</vt:r8>
  </property>
  <property fmtid="{D5CDD505-2E9C-101B-9397-08002B2CF9AE}" pid="12" name="Other">
    <vt:lpwstr/>
  </property>
  <property fmtid="{D5CDD505-2E9C-101B-9397-08002B2CF9AE}" pid="13" name="OutputDir">
    <vt:lpwstr>C:\My Documents\Ppt. Data\emission\stuff</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